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4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dt" idx="1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move the slide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ftr" idx="1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 type="sldNum" idx="1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ED6-36D3-4BB9-93E3-6797C75A5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34E-6541-4E06-8DC4-F47C77340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D548-E775-4CA8-9A8F-F641799D4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анимацию на печат маш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,  требующие особого внимания в организации подготовки к проведению ГИА-9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и разъяснительная работа с участниками ГИА-9 и их родителями (законными представителям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тавки участников ОГЭ при сдаче экзаменов по выбору в ПП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оснащение ППЭ по физике, информатике и ИКТ, иностранным язы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 контроля со стороны Рособрнадзора за организацией  и проведением ОГ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http://fipi.ru/ ; oge-i-gve-9/g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организаторов, включая    руководителей ППЭ  и работы по привлечению  общественных наблюд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общая задача – обеспечить подготовку к ГИА на высоком уровне и выполнить установленные требования к прозрачности и честности проведения экзамена в полной м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0B2C-6CF2-4B28-8E3B-5D7F69BB3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A4881-C2B8-4ED4-B05E-B9C3D98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33C0-4B86-41BA-A31C-1AA11AF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03986-E0C4-412E-B0AB-242AF16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F874E-23D7-41DC-BFF0-A9D2E29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E02D-EF20-43B1-9FC4-ED642E1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B70DB-BE4B-4813-9602-236F662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B110-5DAB-43FE-B41E-4C245388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51BD-8EBC-459E-95E0-0086DB0E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FC54-53D0-4908-9655-290C50FB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12DBA-F33C-4809-A6AE-8C6CE6C0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76AAD-8A75-40B3-AD03-F6069661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FBCE-3345-4500-95D0-E8AC72BC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AE9CE-5DB2-4B11-AA5C-7B7EE04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00AD5-E564-4D1F-BBE5-C47F0FE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D5F48-0305-490B-99A8-EAC54774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01A63-7368-4A90-B997-D2957E0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A860-58F2-405D-ADDC-6276DEB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C9B4B-08EF-4287-90AF-6E3978E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EEC7E-1390-4F39-9BDF-192C474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36755-EBD6-4092-B30D-E384FD33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0ECE4-41FA-4BDA-972A-73F45FC3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8C71-FCB5-4F94-9E29-984E3BB1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31CB-3445-4552-A067-FF70FBB6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14AD0-E7D1-44C9-89C7-9094001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BC709-D36F-41B8-9EE0-6DDDBC8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A7D58-5AEF-4CB2-84C8-1CE2A8A2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72156-9EBF-4C92-91AB-2E7A653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DDA10-5CBE-48FA-AC3F-ABA6E71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16BD7-D1AD-43EB-ABA3-9E7D01B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817C-F8C3-4696-ABC9-913F3C8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F57-4E40-4A57-A51C-33F8ED04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AAEFF-CDE7-4264-9540-26E6AB4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8C430-FAB5-4990-A004-5C3463CE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BB00-534A-4E45-A726-416CB64E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6CAB4-A9EE-47E5-A7C3-9675F3B1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E4B22-0C71-4A39-BBA1-7D20D7E6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9C45-703E-4FF5-BDDC-B5A38B2A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1F1D-0B6D-4DE5-B05B-5BF84F7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A5A20-9303-4D15-AD3B-C03A3BBD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D9461-86C3-48B0-B4E1-BE708DC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EDFF-D873-4F17-82E1-FCA02DA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23C-FF6A-4CD6-8BEE-B956AE5F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B069B-5689-4D5D-AEDF-971E2A1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BAAA3-4C1C-49F3-9A54-B638F42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4D6CB-A181-46F3-A7EA-AC893ED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BE11-38A7-42D0-BE39-5CC26D22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54D34-BF55-4AA9-AE49-F216FA72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719CF-E37B-4F5C-9549-DFF1169E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66151-7830-441A-9452-767FF4BB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B5340-E83B-4DBB-B5A0-E7C6BD4F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07DC1-9A5B-40F7-A88D-F528019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430F-EA59-4E0D-8483-4E1C4694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EEF-503D-485B-A94D-2149397B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34588-F702-439F-9B34-FA573500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C7A01-6768-4A20-972C-E452FF8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C455C-FDC0-421A-8B2D-F8D5E41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7F883-6024-4301-865C-50A63DA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9A25-932B-4669-9A43-6A9B19D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B5DB6-8F98-4499-9F01-E4E62707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DDAFA-0F01-42CF-B1F2-6C544533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69A8C-FC43-4A72-96E3-7F4A4E6C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B57DB-5E1F-4A67-B6AA-D3DCA7C6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ECB4A-26C3-41C7-8972-3AF970F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B0B-4DEE-4BD2-98F2-88772B0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2FCC-EE29-4465-A996-AD22CBE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515B3-53E0-4FB0-9CAD-DE828971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2538F-BAEF-4552-B448-EABA5BAC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E0F4A-7E85-4CC2-9CD2-25F99A6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E2AFC-4AF9-44DA-91E6-6769E46B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B6A06-1E38-4965-B4E5-E318FE5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3467-A083-47A8-88EE-33FB0AF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7009D-DCBC-4F55-96B8-F51E1798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A81C5-1DFC-46A1-BE04-0CC3CDA1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29FAA-7F07-4DCD-93DD-D2AA065A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5CF-6463-4E25-8041-A7C76CC6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3E4C0-8895-4793-85CE-0DE1A208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4AF2C-F8CE-49C6-84BE-E396957B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053D8-B1D3-4310-A36D-07DC972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9593B-9E3B-4264-AC6E-8494CD8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D3719-3152-4EED-BB6C-6DE722E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B45B5-504C-4E92-9BEF-804AB8A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7438F-317F-436B-98B0-3D5D09D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90F82-B435-48C7-92A9-018E201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CD11B-3FEE-46F1-AE42-5A2CA34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E33FF-A299-4F7F-8DAA-6C43C6D0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81C-630D-4B4C-A237-31E53A38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37569-FA13-4712-B20B-4190B7E4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E79C7-EF1E-4B18-A688-CC73AD1E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0AC7C-9AEE-4CCF-AB22-DA05819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6B03F-FABB-4A90-87FE-EE788FA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87B7F-5B3D-4214-A82E-B73BB80F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4D2B0-E49D-4035-B694-0CF9ACA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97243-952C-47C9-9D09-7E7DB28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DE2A7-9443-412C-A7F7-FE47CFC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32745-AF00-46EA-955C-2B44D9E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BBB85-AE51-41C9-8CCD-3444925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EAA-4B20-4889-8D87-47D07163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099F3-75BD-4C2B-9F89-FF85C7E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29B78-D4D9-489F-AAB1-CE9A9E98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1F666-FE52-47D4-832E-4868DA5F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B1051-042B-486F-AE72-BC4F4E8F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C8AB2-999F-4C8A-8EED-91C9A481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0A431-7A70-43A8-89DD-407CC20F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49FC4-B2AA-4958-AD34-8FD08716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94F25-DBD1-4577-B90D-3C4B5C08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8ABD7-8BBE-456D-959F-2775073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6B5FE-8026-45B7-BBDE-8623CBF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3ED-764E-44E9-A1E8-C0E9386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32A7E-E609-4C28-883D-0584203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E407D-F679-4471-8995-4C5414D1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82A86-2491-4136-B704-63E04130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28F3E-A70A-43A0-BD47-EEA0038E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714E5-6CE0-4111-85D4-B5BCA32E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81DABA-072C-40F7-9210-41CE44F175C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9DEDAD-9688-415E-A39F-16EDDBC04E0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2E056D-CE32-4C02-B7AF-A0DA1754F39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6493CE-CDB1-44D4-9F2F-218521A552C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D230B78-29BA-4D00-87A1-22273C2232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5E7-A108-474D-B664-8628782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509DD5-2846-426C-B825-20CEFAE4671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BAE780-77E6-4FD0-BE59-5284FB6912A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BBFE21-1499-4FBA-B133-636BE8192BB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6DC332-C7A3-484F-82AE-C9B5832756C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E50386-0455-4EFB-AE1A-8004520F58F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809416-CB4C-4107-99B2-A17597394A0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9E6D71-F09A-4332-BE80-4ECA0E07F86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863148-4ED0-4DB2-B77D-AFCB6439C9D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269ACE-EE9E-4599-91F9-067F4AA836B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30CBAD-9FE4-4EBA-B864-5C8F18274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0B1-5B62-4BDC-ABF5-6AC031F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9D4649-5D83-4642-864B-48EF05D6795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4F97BA-2AA2-461B-AD55-0884D0212AA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5CCFAF-9381-4CF0-ADD7-5546C8ED824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B088F1-B3D3-4AAD-9674-D221B3C52B2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09AC16-62E7-4FB2-B3B7-87061CA4F2B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1252B4-7B18-477D-B979-E36203EE36F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15595A-FBE8-452E-A237-DDA6D6971F4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31B181-F9BA-427E-9F08-2A40EC564B5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5A8EC5-7C2D-4736-945F-9631045CEAA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84953C-5183-4695-AAFE-C6207200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8BE-E48A-4105-89C9-EC36434C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A5DD63-E420-4A96-94B0-D092344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F03944-846C-41E6-A5B6-7317E34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8C3E78-FA6D-4DCF-A582-F6B569A3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B84101-F350-4809-ACC2-C0A5C78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BE2BB5-A249-4F34-A65F-40978AA0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2DB5E2-4AE1-4D2D-8101-F7BF580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BD246D-1B8F-4413-A586-E1AF48B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D338FE-CB87-4C98-823F-F3A33E2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46EC47-F504-4699-9118-108348D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BD9B3A-6E60-459A-AF86-419E438B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44B-3976-43DD-8A2B-2BB7BE5D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79E4AA3-773C-4179-9478-E55732A1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C8F7B9-12DC-4A2F-9E0D-B3F36785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802AD5-D720-4345-ACD5-602630B1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F1374A-666B-4E4E-AA7B-772FAD4D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260EB8-237D-42B1-A473-17C9784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432612-3632-4619-96F8-D59A8DBC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681043-8658-4CA6-A991-89B8369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2562B7-98B6-4E0D-8558-8C1926F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1E892F-8690-436E-AEA1-AEAB324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41BF94-B50B-4F3A-9A1D-4E028941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97DE-5BF2-4647-AC21-E478A288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33C0D8-DC6B-4FFE-9787-4F7D6511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6D88D7-8003-4F7B-AC28-5D66C33E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8C829C-8AE1-4801-A051-906E61B4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E19AF9-D895-4B46-9674-04196436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9A729F-DE79-477A-A079-8FEDBA3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67FFC5-03FF-4E4B-9123-700E5119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D61C3A-5B8C-4BAB-A4B6-DD010AD8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A1774E-8330-4D0B-9023-C2592E1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8142CA-22ED-4FB7-8C82-03D6387E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D7E62D-1117-4B6A-A0E6-56615F8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D3BF-2F89-4094-889C-D520F9B0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439828-2172-4F8E-B097-5B8AE5A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4099FA-B6ED-4E50-8424-662CB68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558D857-65D2-42AC-A048-E952CBE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C4FDA5-7E4E-424D-A33A-FBC545CA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C07F97-1369-4E50-83D9-1CC551FB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33BE4C-4575-4E00-9A9D-673255C8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665163-AF45-4E17-B0F7-2072E81A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1D1FDD-5855-4DB2-B3B2-598E34D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367C35-9F7A-466B-8412-413A09B1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84C6DB4-B094-42DC-B3AA-9D7D5BE0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AE7E-25E2-44CD-89FF-BC9B98E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2FD775-6840-4417-83DE-A39092C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F2940A-DC3F-4D90-B11D-55D72FF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589507-C22C-425A-B8F5-B9AE1FB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FBE084-30C2-45FE-A3CC-1ED0DB1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ECA624-37F0-4720-8535-542646D8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200A32-505E-4DD5-B2D3-F77B2324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101A56-F282-4AD1-92EA-D629C749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DEB5E7-B6BA-4F66-939A-A40D7962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48C8CE-EB01-487C-BBE1-C9451A19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7EF7365-6E5D-4DF6-B6C2-6B043A7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037-EA24-4768-92CD-B6CEB5DF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759B32-3873-418D-84B4-19BF4A80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C3E5DB-699E-462A-8522-6BF4C9BF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709531-09E1-40DC-9876-2ACBDE4A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222C11-21C3-4517-A927-C694484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C8CCBE-07B3-409A-B793-CC02F34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97EAF8-8B34-4956-B9E0-9113366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0419C3-D65C-4B17-AC55-E03F1DF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3D973E-906F-4E11-8983-CC931A09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7BABD7-64BC-4BA3-BC12-7CF9EFDF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574ED1-DF01-4CDE-8A2A-FC76068F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D791-DE2C-4375-8A4D-1F0FC2A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0199E1-49AC-4599-ACC5-68EE78A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B27781-0F48-432B-A56B-83F1077C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65AB92-CA4F-4E87-B4D5-A4A5F99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9CE90B-3332-4E9A-8F35-4B39185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9DF3F5-C970-44F0-A395-77F0702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18175E-3105-43B7-A16C-F32653F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965ADC-765E-4B40-8DC2-9D3C856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F1F0B8-2BEA-4E0E-BDD8-D1A3DCA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8571A7-58FD-4ABD-84D3-125DDDA7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4ABD46-12D8-428D-884C-620AA2A9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67C7-DE0A-404F-B836-2F17CC5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D3E03B-EA44-465A-91C6-B3D934F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667273B-C669-46BE-8C77-1139E983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F52D05A-A154-4BEB-A627-44B9E2A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A760AB-83DB-4504-8184-F396611C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EB92B6-F5AF-4F31-9AEA-F9CF4F21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DEEC42-DED5-4204-8963-2DBF7F1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76E6B7D-9C95-4531-9CC4-A543671B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E3CD08-BE86-44A2-AA19-A839C75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0FEFDDA-87C7-4385-992A-B8BC09C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ECA6971-61AD-4B5B-88E7-E0CD61CD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0F70-F697-4492-AD58-90923F3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9AC22F-8349-4629-BAE1-093ECEE4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8959BF-B401-43FD-A11E-8ECCA5ED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34D14D-351F-4206-8329-5540356F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FA5B6E-5EDD-420C-B8DF-BDB217ED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B33D3B-0648-445F-BA67-1A0692F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8EB9E4-FA8A-41B8-84FD-319EFFC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799F4D-A6C8-46B8-B0F1-FD8500BC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CCFF69-DDB3-42D9-BD68-65A7615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971D67-04B8-4371-B6E2-1182F24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952F3A-7B89-45D5-9B18-A9E1447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4DB-A795-4160-8C07-E68DB69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5A94B4-B2A5-4F7C-81D9-BB14C17B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885D26-6A97-485E-B80A-C8A5FD4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829B90-A1D9-403B-B347-244E3C1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4BE402-F730-4A0B-B738-319A1416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E30FC2-6F62-4C9B-B7C9-BF963EFB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3E706C-A3D9-4EEC-9AC6-594CAE38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313A6D2-03D9-4A07-98C4-7D27416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8E2CFA-D62B-4E16-BFD6-BDF380E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0D1512E-6C46-4674-AFB5-C42769D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6F63C6C-C1F2-484D-B23D-732F92F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5E2-4865-4844-AADB-99D0EFB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C250864-D765-4A6F-BED2-3EA361E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7185DA-BAFC-4F6D-845C-7F5F9FF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1353FE-4CCB-444C-9011-7D6E1623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23EE7B-F7E2-4FE2-9DCA-FA81BCC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F32523-7A8C-4867-92AA-8E5EEB4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26D0A5-AA97-41EF-8BE9-C69E16A8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D44E15F-7CF2-4845-BFBE-C58D8FCB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772B5C-1C1A-401C-9519-A2092527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66DAB2F-EA64-4CBA-8416-0891FD5D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6B73790-A503-4A8D-8EA0-B0FED70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985-C239-4752-8156-5C744DD8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4A7166-0A1F-4FA1-935E-82DF82B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D48449-3655-4D31-AEE7-C7FA102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410EE4-2C0D-46A8-B0E3-BCA2E7A5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A3F88C-C271-464A-AAFD-5B7FBBD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5B20D8-B979-49B4-A974-CA8FBB7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7287EF-7B76-4EDA-AD80-83DB344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E823FD4-ED79-4940-A681-1DD7FB7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37DDE8-D245-4521-B671-25ECD1FE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353727-B29A-4579-9FD3-CF739CB0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415A6C9-D654-424F-9FB7-C029C72D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216-2DC9-425E-8293-102A3FEA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5A8781-6262-411F-9D03-A20484E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301D535-EDC6-4117-AE5A-04782EA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E9104B-C1CE-4F74-8230-04024D6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31D2B84-B2A7-4AD4-B612-446D49FD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7F6AE9B-CA8F-4FCD-BC13-458BD9E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EFA19D9-4F32-419A-B9AC-FA791B05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72523E-29D6-47D7-8F77-0209297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2E28B90-343B-46CC-A2B7-73AEE8E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268FB3-78D5-4181-ACE0-69FFCC5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8D451E-6B79-4037-BAEB-BDD00E6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090-433E-4C2E-8691-9D15404E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313D2FD-0E9A-4C9D-9D27-3D1E7CAB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B4662D-AF51-4E66-A33F-301EE937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2FD102-469E-46EF-807A-5ABA3E9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15FF96E-7AEF-433E-8E23-067F7DD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6AB18D-8602-4697-AA0B-1A04E65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D03E78-68FB-46DE-B158-CF5AA394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9EAB87-DFA1-42B6-AFF1-603CF64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5A8AD0-8E60-45B1-9654-4977417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FD1311-D54F-43FD-9218-C118EA7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4DB7CF-0F90-47A2-8BCD-37D43E53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C2C8-452D-4F5D-806C-74CD6D70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2FE745A-58EE-4035-95C6-468FE2EA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3F04E7-5083-4EF7-9BE5-5F634DAE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8EE6E7-5706-46DD-A231-ADD9B1CC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06CEBF-5E37-4BF0-8F67-AFAD4D356B0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480636-1C89-47A4-A186-B4B076B24B7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1CA3F6-D8F1-4936-AFE9-1FA49C9445A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9E9123-2959-4CDD-BD9E-0B5D6B14B602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7678E0-C8D3-41C8-AEF3-8012FCDF381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B7D86B-8ECA-4147-8169-CEB920AD27C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5322C2-697D-45F5-A219-25B1F0CB22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0DEA-1BBB-4C1E-B742-F2F658FA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B8E24E-FE96-4CA8-9EDC-DC6B133D84C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D200C1-44D6-41E8-A2E7-FE0BD968323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79660B-8A6F-47A9-A614-4C308F39063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C4F83F-2400-4A8D-99F3-16617F53986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23826C-4844-44D2-AB7E-2C187C5EBB1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AE9CA78-20FB-44E3-874C-1405F75307F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6870458-C3B8-449A-9323-58DF89C0E8B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77374F1-1AEF-48A8-B7E2-9F456FFF4B0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6B72DE0-ABA7-405A-B120-AC335BDB3D74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34FE6F6-7A96-4892-AA5A-13608313FA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2262-DF40-47C3-8009-2A51F7C9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4ED8280-D342-473A-80FF-78F80EFAE32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7A9B680-4802-4FFD-95EF-CE526C378E4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1F7E3C-6036-43E8-B00C-F7BC62C23B4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80A51F4-2DDE-4318-A9DC-6F407CA9B03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A070B36-749C-4C87-88E2-9E2AAE9867F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0983ABE-F116-4FF8-B431-075D16D9708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6103BC2-06B2-41B7-9B40-143931A2716E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56B3CA3-B2E6-4620-993D-FEEE5202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A5BE257-3768-44D7-80ED-C57BB7B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7E10064-10FC-4CB7-BEA5-F3E63D4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1567-218E-4AC6-A301-52A0D8C2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324902-EAD4-49F4-B3AE-56E8214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D6705DA-568F-4665-9473-3CB5430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AFBB801-7FFF-4643-9744-161D2FC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3C43D18-F53A-43A9-A244-A336FD2E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201487E-973B-40BE-A929-754497E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52F4D13-5C51-4309-802A-8886197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E09A7F-F2C7-4262-A6CC-B63C17E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6FB5C4B-52C1-4058-9CF7-E012F2B3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B6EA77A-E0B8-4F2B-ACD8-17E4240A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3B9A5AA-7FDF-4D4D-83E0-B8826C2A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F1E3-2B98-423F-9135-E9A26F93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32FB21F-F66E-43BF-941D-F468217C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5489BB-E422-4A3C-A59A-9293C48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4DE55FF-C024-4B8A-B1F8-977E3755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7651C66-6841-49F6-91A0-99A3BA3E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B09AF44-6DEF-460E-89A6-26CE2B8E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27B61F-53DD-493B-8BD5-BE88E5F2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C0FE58B-725F-4D8C-BCA2-83A4D40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88C9F5F-5852-49BE-8FB9-1D5B9D0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E7C8320-36AB-49BC-A1DB-E111409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DD7C41-AF35-4267-8C7A-3A6F87BB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B0B3-66EB-476D-ADF4-D829985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10CE0E-1076-4FAC-B2AD-5B8A5509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EABE5BE-A8A6-4D4D-812D-3CB44064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BDE80C9-4704-416E-9C2F-BF23658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F0F3A4D-380D-40F9-8126-3411AF1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EF624A6-F636-4B8B-A82A-E7888B0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AD965D7-07AF-4512-A8A9-F936510A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07441AD-037C-44A5-939E-3D325B6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7C33CDF-E013-4F6C-8787-6A829F0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E6C11F4-9FD0-4129-99B5-216E434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D264381-44BD-429D-8305-40A84CE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87F5-6EC1-4707-922A-B2CE848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8F06F4C-CC35-4BC7-A319-746646D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284FA60-4661-4CC1-A0E4-964A3788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9135BB8-133C-4D95-9DCF-34FA417C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2D6D9DE-8328-4915-8775-40BB0FB5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7D6513-6682-45CB-82D8-D9C04FE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35547B3-4181-439F-BC64-1D044B2D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C3E597-E4A5-4A75-82F1-CE1EEF7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9519D4-2FD3-4DA8-AB36-BB9C2497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8771062-E18E-4245-8775-7BA675B4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C39A19-D67B-414C-8BFA-7B126EA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82E6-EA48-42AC-83FF-B91CB27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B73BF0-57D5-4C9F-9DB5-CA56BDB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450B10-4FC4-42B2-9395-814B307D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4B154A-6EFF-4FBB-9EC2-D6662840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D50C88-5D18-433B-AF41-14AFF660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DE22802-C8EB-46E3-B742-8BBEEB2C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79215F6-0B3A-4440-9280-97B9A398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DDC8F3-7AA3-4F91-B566-9DA1E7A2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E19B634-5BBB-41EB-B152-4D36396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080B0D8-7451-43D0-B432-07C11C4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2BECAE3-889E-4E13-B7CC-F1A18F4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1D1A-5E4B-480F-94BC-23CF4E8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9D537D1-21E0-45BA-AB17-74F90D7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187DEBD-D73E-427C-9EF5-D1A011F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2FF9597-0ED9-448E-8679-407A06F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E1699C3-0ED0-478B-9A24-9AFE2C8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DDAA4CF-2AA4-44E8-9D7C-4D4E838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76E4A85-813C-46F0-951D-E474DEBD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8EF15F7-6F68-400B-8375-4F1D21DF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117746-CEA2-4596-B5D0-672940A5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124644-83ED-4907-B3D4-486ED011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B6EDB2-D8C4-4745-8FB3-1039A694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1ED2-A67B-488F-997F-0FC9C27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AE0DDE-1D45-4072-BA74-F5F7FC81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57D8282-FCAE-4163-9392-EDCFBFF5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ACE1E65-36D9-4E8C-BC3E-557810B9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D9927F-BAC7-4F31-BDB0-1AF3A26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BE5182-E699-4A63-BAF1-05FE3ED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B98ADC-0E22-48FC-A909-905A523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09D7D15-2243-4A45-BD2B-0C9BC86E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965A72-DA7C-4315-8CBA-F5961C66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2CBB164-9752-41E5-A500-38E02C3E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5FB8641-1DA3-44D9-B654-8DB4C4E4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37E9-D562-408F-925B-FEAD7C94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271E550-8E19-4FBE-A51B-1D08B5D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8BF0746-AAB4-4CDD-8340-8F4ACBD9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A7104ED-BCD9-47B1-85EA-C86B5ED6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CB11CC1-9083-4B54-9597-3DE9988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7CF54F0-AEF4-426B-B37E-55B6FD2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9F17CBB-2CD8-46A0-B54F-7C0A8DB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3511C01-B8CC-4F56-86DA-B3C973A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B50B71F-A5C2-4668-9E96-D3E3C15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AF43EFE-73A6-4848-8B4F-AAB6BC8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EE74B59-9626-44B1-88B9-FD83C582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F83C-0D29-4BC8-BB66-084D1BEF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81689D9-2C40-4A1F-B0C6-713BD97D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7CE59C-BEC1-4954-B3B9-34DC2A00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CDE8A75-11D1-4C3A-B4F4-E17643C6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55FA858-2606-4290-8D86-0D1BC7B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30898C7-757F-4421-977E-06D390B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D48A2FB-8448-47EB-A6DF-4408FA8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3525CDD-7B09-4849-8161-C110B95A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590B560-DAF8-49E0-921C-69A76E93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BDCCB25-132F-4551-9C92-DFBC1EA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C60534C-0492-4181-95AD-77870C0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6338-3D16-40EB-B4F8-B68B56CB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AB86A82-195D-429A-97A0-4C44E98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836DF44-7C9F-4714-8B8F-BDDA45A1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BEB51F-3E5B-4FE9-A9E1-7680FACD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989A711-6ACD-4CF3-AC8C-CDBECC26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08B317C-BFBA-486E-80F9-BBD3E0D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AC77C48-B82E-46F5-92BE-E1F389C9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82D126B-7DE2-4CC2-8433-CAD1962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F9E1895-F498-4DE0-9740-B91DC576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53BC293-766B-45B1-9323-03B910C6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B44B310-AF7E-4F76-B1DA-A5A307B5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1B81-7EAF-42FB-8D09-84961DD5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4D38A27-CC35-4A8B-A681-079E828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F88926-3810-49CD-80EB-FF70643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A0D6F7A-F00B-4B75-9656-7AC4FDA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DB85830-314B-4193-A964-BFE80195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C3D907F-14E9-4FE8-B1A7-8F432D95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C64C1A5-39BD-43C0-B52F-FF63330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D10C969-EEEC-4BA2-A160-525CFD1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B208FCD-E5F3-42D9-A76B-A5548E5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3DC37DC-1323-4EF4-89BA-309EDE1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0F63376-7028-426E-9897-07225DF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C8B5-05B9-4D40-BCD5-BFC1C83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2A2F68D-0F9B-42DE-8D6E-1340090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564F9C4-74B4-4D5E-86D0-CBA543B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90E94EE-A458-402B-B441-0495B1F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7855235-42F6-4583-ACB5-825ECD78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7EA482D-FD81-42CC-88C2-608FF46B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D1B690A-0F9D-4695-BB1D-0FD09BA0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B1E0A79-06A2-4525-83BC-9960CCCE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BBECB79-8049-47CD-8F63-41C8592B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5934A50-02B9-4950-9A4D-EF230253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28A14A7-EF38-4FB2-A4F2-CC938BB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A3BB-EA62-4267-AF54-158AF09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2AAAF67-B40A-4372-B5AB-19BF69B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28D5DD0-A4B3-4FE4-91FD-9D5F9B4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D2E701A-704A-4371-AB74-BB68AA5D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5CBCDEF-6ED0-4E6B-A5CB-65DB78B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D2C1479-8CB4-423B-BF1A-502D91C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E25F73B-DD9C-412E-A5CF-08CA1CB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C9611B6-A058-4D99-8622-2B09502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053FFD8-2DF3-4960-B1A6-6548C0C5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2DEE0B0-B4AD-4076-A98C-2E0EAD1D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44E2548-A89D-4355-90DF-FCC8961F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1C08-C424-420E-8F8C-F6D9D07F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296D6AD-697B-44BC-B044-2A10F23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F4F8C4D-6A60-4D43-A03A-DCADA12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B08884C-123F-49FE-89C5-B39B117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CD85EC1-E935-4B95-A326-CB9D8C3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1DDE758-B1D6-4ED7-921D-3F25DE1D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51AF0EE-73DC-4BCC-A9C9-BC3C4D8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44D041A-0FCC-4F8C-8841-B7EEBC7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012D46B-31DB-4E04-BFA9-ABF3AF7D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FD65282-1A55-4813-A871-E8BE43C3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BC25E70-3D17-4D14-AC71-04A8805F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84A7-DE1B-4409-8DDB-C0ABB12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7F82B19-EEE0-4228-9EFF-8EF773F4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0FD86ED-72B4-4E40-81A7-ECDB90CF995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9FF8ADD-B87C-4BBE-A380-A0E0B0A43A6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CFEAD27-3158-454E-A925-1318FCB5D61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8AEF3E1-183C-472B-8FAD-C3610FE5614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B868E24-B47E-42AF-BE94-E3D089C3BBB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EC13F4A-70E8-4C74-BACD-1D6DB63A29C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2CA0FFC-8F6F-4A4F-82C3-D4D837A4158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CAD73E0-D2CD-48F1-BD28-B31DB5489EC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892C29C-2071-46A9-AD04-09B3422AC4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2987-3C22-4F06-81D9-03DFDF8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98C2FB8-F922-476A-9F7D-55C562C0D75D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E2F9494-EB53-431E-8B2E-48093832902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861B48E-DB5F-492C-AF29-363F5293F2D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A339BF-BC87-4F9C-B111-34AC4D7173D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EAED70-AB1B-4ACA-B300-406886596AF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CFACD6-1847-441E-9062-2A676EE0AB4F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3D5A81-FEA3-4D51-BD4A-A3AE0EC8157E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0296EC-DCA1-482C-AD1F-68C1479AF97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E64E17-8954-4207-A8D2-4C9E501FFD1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13E457-4412-4057-BEC2-296C7C41C4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81FC-4A67-4ACE-AD13-9BFF68B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BC2951-2323-48FA-A524-8AEF059B23B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87C81E-ECD8-4DAD-9A0C-735CFCF0492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8048B1-444E-46D1-9DF0-2BBE1BAE290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754375-04C8-4AB0-9E22-9E643331BD4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772420-D019-44B6-8C7F-82ABBDBFCA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2125-F747-486D-96FB-BC99D02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C198-3A67-4026-B640-13578AA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7067-EA3E-4FA3-9160-0401704F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A402-BA04-4405-9301-68AE00F3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554C-C016-4FE8-BBD9-31E337E5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4632-E0E1-48A9-9FE6-4C7B885E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F71B-29E7-4A06-977F-A41C683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8918-F7EE-4AF4-9F45-D5669AF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43A2-FC1D-4AE8-890C-A95F9E32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FBB9-021B-412B-9D2B-6F4657B9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EABD-F04D-4A5B-ABDF-D754A70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D6F7-6240-42C4-AEDD-F8B819B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9122-D441-4BC5-8FE9-17FB2FCF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BB3C-ACE6-4A7A-A4EC-85998A6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CBAE-FC08-483D-8155-C6759A89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D6D9-620C-437F-B081-C605D340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1EB2-1381-4A8B-86C9-EF2BE396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60EA-60A3-460C-B68F-91F42BF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A72C5-7249-4A97-84E0-09B6E4C5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3017-9A51-42A4-8E39-6A1653A5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EA49-D765-47F5-A298-47AC0CC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4CC1-856D-40ED-80C3-D71E980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A3B30-FB15-4E19-A54E-D1BF8BA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959C-EAF1-4BF0-8E83-3D2C224F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D7D9-77B6-4DEE-88C7-CF30958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9C03-A034-43C9-86BE-723E0DE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C8982-53F1-4424-BDF8-DF96EF9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51A4-36CF-40BA-B3B1-A78A5F47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64BE-7338-42E6-9CBF-48D991E7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F55A4-99CC-4865-9D71-8DF0198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B701-D28B-49EE-8027-E83E5933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4FBA-F15A-4EF2-BCAD-44F79111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8F41-44D3-4749-B653-945FFA6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BF9A-A166-44F2-B30E-1FCFB54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525A-5A0B-491D-93A5-DEA2B97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45B8C-1B38-428A-8F4A-C4E41D5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F7523-F03D-4C22-902F-BDE6FAD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2E8E8-D969-4F1D-9921-0F518ED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C93E-2F6B-4B98-AD19-84CAE716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C9418-0283-41BD-A658-6A8E9009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998E-D163-4644-B035-FFA25D98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0ADA3-13BD-4665-AE27-62B9E2C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CDB2-3ECE-4E5D-853B-1CAD4B2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2EB-84CE-439B-8C03-17D517073BB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A24-FB91-45D5-AABB-1205FA60B54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109-59A1-4EA5-89B7-348B6D58C72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CE6-F4DE-42EF-9C59-57108F92182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4D6-C44E-4ADD-8501-8FFEE51168F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F2B-599C-493F-A9D9-2E6C2605BFB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F4BD-3D91-4E6D-A013-E349E6E403C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4B02-A771-47C0-91ED-B6855F6D217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E31-A8E9-4332-83E9-2E657C0C491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735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8AC8-B6DA-4E78-B949-306F52C4BF5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C9C-F1A1-4489-A485-5BFF6237D93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D763-5A33-4D8D-ADF8-3A577874CEF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E7C4-9411-4799-B994-EF70B9B16CD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ABCA-F918-4FFF-A9D4-B8B2CA74714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952-40A9-4B87-ABC5-D42D74C0D26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7B52-AD84-4F7A-A5A0-6AB0C23DBC7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1AB-26D7-4FCA-888D-BA03A68B7E1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1F4-1329-4111-AF0F-4F1BD19AC90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3EC-5242-4981-8371-8ADBD1F13B6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ED9-47F8-4904-A748-9E3E8EFB688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E547-F42C-4CB7-A7A2-E2352D2DFF0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20B-4309-46BE-84C7-A7F744B64CC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B358-98DB-4625-8592-D4E871CE7CC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576D-F586-4EBE-BE1A-7352D89C868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D16-4488-43D5-84AE-91006E48C7B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309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Num" idx="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F988-4E59-4790-BD09-9E52C2026D3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4E87-756F-4A2D-8B1F-40A63864DFB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4CE4-B326-4E2B-A501-EE31944C4E0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E6C-F5E4-4F66-8674-A8315FBAD19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B880-C186-4C25-AD26-F2103042670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B9B-C44B-48FB-999D-BE652069113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6971-4511-4527-81DF-38E2EDD2271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DB90-2D3B-436A-88B3-9BE4FD6E4D4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5CE-84FF-4B05-ABCB-5882121D8A6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476-4360-45D7-B3A9-36BD703CABA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318-9774-466B-992D-39C83DE191D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892-570A-4269-8493-A9289EE0364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BCAA-C464-415A-B90D-07F407842F1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B87-E0AE-48FA-9273-BECA5102DD8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94A-7EE2-4FC8-9F50-EC0D3032622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883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3871-F856-48A8-B50A-5E5AD197ED6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B7D1-BAF4-4E8E-9567-BCE7DDC7721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81C2-17B3-4575-B518-2429050B21C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B52-7BD9-4A35-87A7-CE4207A773A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6B8-F0DB-4F7D-890A-05BD9813B42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617E-ABA6-4286-81AE-FF3EF9858EF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hyperlink" Target="http://www.ege.edu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4da"/>
                </a:solidFill>
                <a:latin typeface="Arial"/>
              </a:rPr>
              <a:t>Федеральный закон от 29.12.2012 № 273-ФЗ «Об образовании в Российской Федерации</a:t>
            </a:r>
            <a:r>
              <a:rPr b="0" lang="ru-RU" sz="3200" spc="-1" strike="noStrike">
                <a:solidFill>
                  <a:srgbClr val="3204da"/>
                </a:solidFill>
                <a:latin typeface="Cassandra"/>
              </a:rPr>
              <a:t>»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87280" y="1665000"/>
            <a:ext cx="8532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Государственная итоговая аттестация является обязательной и проводится в форме и порядке, определяемых Федеральным органом исполнительной власт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Правила и процедура проведения ЕГЭ,ОГЭ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23640" y="1484280"/>
            <a:ext cx="8530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ГЭ и ОГЭ проводится в специальных пунктах проведения экзамена (ППЭ)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51" name="Прямоугольник 3"/>
          <p:cNvSpPr/>
          <p:nvPr/>
        </p:nvSpPr>
        <p:spPr>
          <a:xfrm>
            <a:off x="324000" y="4365720"/>
            <a:ext cx="8640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и ОГЭ начинается в 10:00 по местному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начала и окончания экзамена фиксируетс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2" name="Прямоугольник 21"/>
          <p:cNvGrpSpPr/>
          <p:nvPr/>
        </p:nvGrpSpPr>
        <p:grpSpPr>
          <a:xfrm>
            <a:off x="-6480" y="6431040"/>
            <a:ext cx="9163080" cy="439560"/>
            <a:chOff x="-6480" y="6431040"/>
            <a:chExt cx="9163080" cy="439560"/>
          </a:xfrm>
        </p:grpSpPr>
        <p:pic>
          <p:nvPicPr>
            <p:cNvPr id="1953" name="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-6480" y="6431040"/>
              <a:ext cx="9163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4" name=""/>
            <p:cNvSpPr/>
            <p:nvPr/>
          </p:nvSpPr>
          <p:spPr>
            <a:xfrm>
              <a:off x="0" y="6435720"/>
              <a:ext cx="9144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Прямоугольник 22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56" name="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ришли на экзамен. Что необходимо иметь при себе и можно взять с собой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9" name="Прямоугольник 6"/>
          <p:cNvSpPr/>
          <p:nvPr/>
        </p:nvSpPr>
        <p:spPr>
          <a:xfrm>
            <a:off x="324000" y="836640"/>
            <a:ext cx="3240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(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Прямоугольник 10"/>
          <p:cNvSpPr/>
          <p:nvPr/>
        </p:nvSpPr>
        <p:spPr>
          <a:xfrm>
            <a:off x="5742360" y="971640"/>
            <a:ext cx="2620080" cy="642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обхо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арство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Picture 10" descr="D:\!МолодыеТихоновы-Е.В\!Работа-сделать\РЦОИ\1088102-3d-Teeny-White-Person-Carrying-A-Ruler.jpg"/>
          <p:cNvPicPr/>
          <p:nvPr/>
        </p:nvPicPr>
        <p:blipFill>
          <a:blip r:embed="rId3"/>
          <a:srcRect l="0" t="0" r="0" b="12916"/>
          <a:stretch/>
        </p:blipFill>
        <p:spPr>
          <a:xfrm>
            <a:off x="1692360" y="3578400"/>
            <a:ext cx="1439640" cy="111096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1" descr="D:\!МолодыеТихоновы-Е.В\!Работа-сделать\РЦОИ\1087621-3d-Teeny-White-Person-Writing-With-A-Pen.jpg"/>
          <p:cNvPicPr/>
          <p:nvPr/>
        </p:nvPicPr>
        <p:blipFill>
          <a:blip r:embed="rId4"/>
          <a:srcRect l="0" t="0" r="14258" b="0"/>
          <a:stretch/>
        </p:blipFill>
        <p:spPr>
          <a:xfrm>
            <a:off x="4103640" y="674640"/>
            <a:ext cx="1013040" cy="13334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2" descr="D:\!МолодыеТихоновы-Е.В\!Работа-сделать\РЦОИ\1088070-3d-Teeny-White-Person-Holding-A-Calculator-In-Front-Of-His-Face.jpg"/>
          <p:cNvPicPr/>
          <p:nvPr/>
        </p:nvPicPr>
        <p:blipFill>
          <a:blip r:embed="rId5"/>
          <a:srcRect l="0" t="0" r="16688" b="0"/>
          <a:stretch/>
        </p:blipFill>
        <p:spPr>
          <a:xfrm>
            <a:off x="6064200" y="3284640"/>
            <a:ext cx="1063800" cy="1439640"/>
          </a:xfrm>
          <a:prstGeom prst="rect">
            <a:avLst/>
          </a:prstGeom>
          <a:ln w="0">
            <a:noFill/>
          </a:ln>
        </p:spPr>
      </p:pic>
      <p:sp>
        <p:nvSpPr>
          <p:cNvPr id="1964" name="Прямоугольник 27"/>
          <p:cNvSpPr/>
          <p:nvPr/>
        </p:nvSpPr>
        <p:spPr>
          <a:xfrm>
            <a:off x="3348000" y="200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лев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Прямоугольник 29"/>
          <p:cNvSpPr/>
          <p:nvPr/>
        </p:nvSpPr>
        <p:spPr>
          <a:xfrm>
            <a:off x="1476360" y="27478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которые можно использовать на ЕГЭ по отд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Прямоугольник 15"/>
          <p:cNvSpPr/>
          <p:nvPr/>
        </p:nvSpPr>
        <p:spPr>
          <a:xfrm>
            <a:off x="1258920" y="5975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, транспортир,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Прямоугольник 16"/>
          <p:cNvSpPr/>
          <p:nvPr/>
        </p:nvSpPr>
        <p:spPr>
          <a:xfrm>
            <a:off x="1258920" y="4788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Прямоугольник 17"/>
          <p:cNvSpPr/>
          <p:nvPr/>
        </p:nvSpPr>
        <p:spPr>
          <a:xfrm>
            <a:off x="1258920" y="5183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 и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18"/>
          <p:cNvSpPr/>
          <p:nvPr/>
        </p:nvSpPr>
        <p:spPr>
          <a:xfrm>
            <a:off x="1258920" y="558000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4" descr="X:\11_Тихонов\2012\презент2012\221974-3d-Teeny-Person-With-A-Check-Mark-2.jpg"/>
          <p:cNvPicPr/>
          <p:nvPr/>
        </p:nvPicPr>
        <p:blipFill>
          <a:blip r:embed="rId6"/>
          <a:srcRect l="0" t="0" r="0" b="22349"/>
          <a:stretch/>
        </p:blipFill>
        <p:spPr>
          <a:xfrm>
            <a:off x="539640" y="487368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" descr="X:\11_Тихонов\2012\презент2012\221974-3d-Teeny-Person-With-A-Check-Mark-2.jpg"/>
          <p:cNvPicPr/>
          <p:nvPr/>
        </p:nvPicPr>
        <p:blipFill>
          <a:blip r:embed="rId7"/>
          <a:srcRect l="0" t="0" r="0" b="22349"/>
          <a:stretch/>
        </p:blipFill>
        <p:spPr>
          <a:xfrm>
            <a:off x="539640" y="527364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49"/>
          <a:stretch/>
        </p:blipFill>
        <p:spPr>
          <a:xfrm>
            <a:off x="539640" y="566100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4" descr="X:\11_Тихонов\2012\презент2012\221974-3d-Teeny-Person-With-A-Check-Mark-2.jpg"/>
          <p:cNvPicPr/>
          <p:nvPr/>
        </p:nvPicPr>
        <p:blipFill>
          <a:blip r:embed="rId9"/>
          <a:srcRect l="0" t="0" r="0" b="22349"/>
          <a:stretch/>
        </p:blipFill>
        <p:spPr>
          <a:xfrm>
            <a:off x="539640" y="6058080"/>
            <a:ext cx="360360" cy="24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0.23657 L 1.66667E-006 0.02014 E">
                                      <p:cBhvr>
                                        <p:cTn id="11" dur="1000" fill="hold"/>
                                        <p:tgtEl>
                                          <p:spTgt spid="1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25671 L -0.01927 0.01666 E">
                                      <p:cBhvr>
                                        <p:cTn id="19" dur="1000" fill="hold"/>
                                        <p:tgtEl>
                                          <p:spTgt spid="1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9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атематика – линейк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, химия –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, география – линейка,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197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1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83" name="TextBox 6"/>
          <p:cNvSpPr/>
          <p:nvPr/>
        </p:nvSpPr>
        <p:spPr>
          <a:xfrm>
            <a:off x="395280" y="692280"/>
            <a:ext cx="806436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Box 10"/>
          <p:cNvSpPr/>
          <p:nvPr/>
        </p:nvSpPr>
        <p:spPr>
          <a:xfrm>
            <a:off x="298440" y="3716280"/>
            <a:ext cx="84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ься иными предметами или средствами, не допущенными Рособрнадзором к использованию в ППЭ во время экзамена, не только в аудитории, но и во всем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6"/>
          <p:cNvSpPr/>
          <p:nvPr/>
        </p:nvSpPr>
        <p:spPr>
          <a:xfrm>
            <a:off x="298440" y="10764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ариваться, меняться местами, любыми материалами и предм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Группа 1"/>
          <p:cNvGrpSpPr/>
          <p:nvPr/>
        </p:nvGrpSpPr>
        <p:grpSpPr>
          <a:xfrm>
            <a:off x="3780000" y="1989000"/>
            <a:ext cx="1052280" cy="1379520"/>
            <a:chOff x="3780000" y="1989000"/>
            <a:chExt cx="1052280" cy="1379520"/>
          </a:xfrm>
        </p:grpSpPr>
        <p:pic>
          <p:nvPicPr>
            <p:cNvPr id="1987" name="Picture 12" descr="D:\!МолодыеТихоновы-Е.В\!Работа-сделать\РЦОИ\1088118-Clipart-3d-Teeny-White-Person-Talking-On-Two-Phones-Royalty-Free-CGI-Illustration.jpg"/>
            <p:cNvPicPr/>
            <p:nvPr/>
          </p:nvPicPr>
          <p:blipFill>
            <a:blip r:embed="rId3"/>
            <a:srcRect l="0" t="0" r="5591" b="1573"/>
            <a:stretch/>
          </p:blipFill>
          <p:spPr>
            <a:xfrm>
              <a:off x="3780000" y="1989000"/>
              <a:ext cx="105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0" descr="D:\!МолодыеТихоновы-Е.В\!Работа-сделать\РЦОИ\17693_732062542_medium.jpg"/>
            <p:cNvPicPr/>
            <p:nvPr/>
          </p:nvPicPr>
          <p:blipFill>
            <a:blip r:embed="rId4"/>
            <a:stretch/>
          </p:blipFill>
          <p:spPr>
            <a:xfrm>
              <a:off x="3980520" y="2035800"/>
              <a:ext cx="6156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9" name="Picture 11" descr="D:\!МолодыеТихоновы-Е.В\!Работа-сделать\РЦОИ\pinac2.jpg"/>
          <p:cNvPicPr/>
          <p:nvPr/>
        </p:nvPicPr>
        <p:blipFill>
          <a:blip r:embed="rId5"/>
          <a:stretch/>
        </p:blipFill>
        <p:spPr>
          <a:xfrm>
            <a:off x="5364000" y="1878120"/>
            <a:ext cx="1128960" cy="11206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4" descr="D:\!МолодыеТихоновы-Е.В\!Работа-сделать\РЦОИ\223007-3d-Teeny-Person-Thinking-Over-A-Prohibited-Sign.jpg"/>
          <p:cNvPicPr/>
          <p:nvPr/>
        </p:nvPicPr>
        <p:blipFill>
          <a:blip r:embed="rId6"/>
          <a:srcRect l="0" t="0" r="0" b="10005"/>
          <a:stretch/>
        </p:blipFill>
        <p:spPr>
          <a:xfrm>
            <a:off x="900000" y="2284560"/>
            <a:ext cx="1368360" cy="1396800"/>
          </a:xfrm>
          <a:prstGeom prst="rect">
            <a:avLst/>
          </a:prstGeom>
          <a:ln w="0">
            <a:noFill/>
          </a:ln>
        </p:spPr>
      </p:pic>
      <p:sp>
        <p:nvSpPr>
          <p:cNvPr id="1991" name="TextBox 6"/>
          <p:cNvSpPr/>
          <p:nvPr/>
        </p:nvSpPr>
        <p:spPr>
          <a:xfrm>
            <a:off x="3125880" y="106992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обильную и иную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6"/>
          <p:cNvSpPr/>
          <p:nvPr/>
        </p:nvSpPr>
        <p:spPr>
          <a:xfrm>
            <a:off x="5861160" y="105264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и фото и видео съемку, звуко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Группа 33"/>
          <p:cNvGrpSpPr/>
          <p:nvPr/>
        </p:nvGrpSpPr>
        <p:grpSpPr>
          <a:xfrm>
            <a:off x="7723080" y="1916280"/>
            <a:ext cx="1062000" cy="1120680"/>
            <a:chOff x="7723080" y="1916280"/>
            <a:chExt cx="1062000" cy="1120680"/>
          </a:xfrm>
        </p:grpSpPr>
        <p:pic>
          <p:nvPicPr>
            <p:cNvPr id="1994" name="Picture 13" descr="D:\!МолодыеТихоновы-Е.В\!Работа-сделать\РЦОИ\1088009-3d-Teeny-White-Person-Camera-Man.jpg"/>
            <p:cNvPicPr/>
            <p:nvPr/>
          </p:nvPicPr>
          <p:blipFill>
            <a:blip r:embed="rId7"/>
            <a:srcRect l="0" t="0" r="4743" b="13523"/>
            <a:stretch/>
          </p:blipFill>
          <p:spPr>
            <a:xfrm>
              <a:off x="7732800" y="1916280"/>
              <a:ext cx="1052280" cy="112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5" name="Группа 6"/>
            <p:cNvGrpSpPr/>
            <p:nvPr/>
          </p:nvGrpSpPr>
          <p:grpSpPr>
            <a:xfrm>
              <a:off x="7723080" y="1937520"/>
              <a:ext cx="1028520" cy="1010160"/>
              <a:chOff x="7723080" y="1937520"/>
              <a:chExt cx="1028520" cy="1010160"/>
            </a:xfrm>
          </p:grpSpPr>
          <p:sp>
            <p:nvSpPr>
              <p:cNvPr id="1996" name="Овал 2"/>
              <p:cNvSpPr/>
              <p:nvPr/>
            </p:nvSpPr>
            <p:spPr>
              <a:xfrm>
                <a:off x="7723080" y="1937520"/>
                <a:ext cx="1028520" cy="101016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Прямая соединительная линия 4"/>
              <p:cNvSpPr/>
              <p:nvPr/>
            </p:nvSpPr>
            <p:spPr>
              <a:xfrm>
                <a:off x="7873560" y="2084760"/>
                <a:ext cx="727200" cy="7153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8" name="Прямая соединительная линия 12"/>
          <p:cNvSpPr/>
          <p:nvPr/>
        </p:nvSpPr>
        <p:spPr>
          <a:xfrm>
            <a:off x="515880" y="458136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16" descr="D:\!МолодыеТихоновы-Е.В\!Работа-сделать\РЦОИ\1088106-3d-Teeny-White-Person-Going-To-The-Restroom.jpg"/>
          <p:cNvPicPr/>
          <p:nvPr/>
        </p:nvPicPr>
        <p:blipFill>
          <a:blip r:embed="rId8"/>
          <a:srcRect l="0" t="0" r="0" b="10288"/>
          <a:stretch/>
        </p:blipFill>
        <p:spPr>
          <a:xfrm>
            <a:off x="2519280" y="4761000"/>
            <a:ext cx="828720" cy="842760"/>
          </a:xfrm>
          <a:prstGeom prst="rect">
            <a:avLst/>
          </a:prstGeom>
          <a:ln w="0">
            <a:noFill/>
          </a:ln>
        </p:spPr>
      </p:pic>
      <p:sp>
        <p:nvSpPr>
          <p:cNvPr id="2000" name="Прямоугольник 28"/>
          <p:cNvSpPr/>
          <p:nvPr/>
        </p:nvSpPr>
        <p:spPr>
          <a:xfrm>
            <a:off x="395280" y="692280"/>
            <a:ext cx="8064360" cy="36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Группа 32"/>
          <p:cNvGrpSpPr/>
          <p:nvPr/>
        </p:nvGrpSpPr>
        <p:grpSpPr>
          <a:xfrm>
            <a:off x="6561000" y="2643120"/>
            <a:ext cx="1028880" cy="1079640"/>
            <a:chOff x="6561000" y="2643120"/>
            <a:chExt cx="1028880" cy="1079640"/>
          </a:xfrm>
        </p:grpSpPr>
        <p:pic>
          <p:nvPicPr>
            <p:cNvPr id="2002" name="Picture 2" descr="X:\11_Тихонов\2012\презент2012\221960-3d-Teeny-Person-Using-A-Microphone-1.jpg"/>
            <p:cNvPicPr/>
            <p:nvPr/>
          </p:nvPicPr>
          <p:blipFill>
            <a:blip r:embed="rId9"/>
            <a:srcRect l="0" t="0" r="12020" b="0"/>
            <a:stretch/>
          </p:blipFill>
          <p:spPr>
            <a:xfrm>
              <a:off x="6660000" y="2692080"/>
              <a:ext cx="804960" cy="10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3" name="Группа 6"/>
            <p:cNvGrpSpPr/>
            <p:nvPr/>
          </p:nvGrpSpPr>
          <p:grpSpPr>
            <a:xfrm>
              <a:off x="6561000" y="2643120"/>
              <a:ext cx="1028880" cy="1009800"/>
              <a:chOff x="6561000" y="2643120"/>
              <a:chExt cx="1028880" cy="1009800"/>
            </a:xfrm>
          </p:grpSpPr>
          <p:sp>
            <p:nvSpPr>
              <p:cNvPr id="2004" name="Овал 30"/>
              <p:cNvSpPr/>
              <p:nvPr/>
            </p:nvSpPr>
            <p:spPr>
              <a:xfrm>
                <a:off x="6561000" y="2643120"/>
                <a:ext cx="1028880" cy="100980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Прямая соединительная линия 31"/>
              <p:cNvSpPr/>
              <p:nvPr/>
            </p:nvSpPr>
            <p:spPr>
              <a:xfrm>
                <a:off x="6711840" y="2790720"/>
                <a:ext cx="727200" cy="714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6" name="Picture 3" descr="X:\11_Тихонов\2012\презент2012\1087780-3d-Teeny-White-Paramedics-Loading-A-Person-Into-An-Ambulance.jpg"/>
          <p:cNvPicPr/>
          <p:nvPr/>
        </p:nvPicPr>
        <p:blipFill>
          <a:blip r:embed="rId10"/>
          <a:srcRect l="0" t="4795" r="1682" b="11360"/>
          <a:stretch/>
        </p:blipFill>
        <p:spPr>
          <a:xfrm>
            <a:off x="539640" y="4640400"/>
            <a:ext cx="1440000" cy="108720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7"/>
          <p:cNvSpPr/>
          <p:nvPr/>
        </p:nvSpPr>
        <p:spPr>
          <a:xfrm>
            <a:off x="4284720" y="46893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йти можно по уважительным причинам и только в сопровождении дежу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7"/>
          <p:cNvSpPr/>
          <p:nvPr/>
        </p:nvSpPr>
        <p:spPr>
          <a:xfrm>
            <a:off x="179280" y="5904000"/>
            <a:ext cx="88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ы нарушите установленные правила, Вас могут удалить с экза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Picture 2" descr="X:\11_Тихонов\2012\презент2012\221982-3d-Teeny-Person-With-A-Red-Exclamation-Point.jpg"/>
          <p:cNvPicPr/>
          <p:nvPr/>
        </p:nvPicPr>
        <p:blipFill>
          <a:blip r:embed="rId1"/>
          <a:srcRect l="0" t="0" r="14855" b="0"/>
          <a:stretch/>
        </p:blipFill>
        <p:spPr>
          <a:xfrm>
            <a:off x="5102280" y="6058080"/>
            <a:ext cx="298440" cy="3934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22" descr="G:\РЦОИ\2012\презент2012\1088557-3d-Teeny-White-Person-Walking-Towards-An-Open-Door.jpg"/>
          <p:cNvPicPr/>
          <p:nvPr/>
        </p:nvPicPr>
        <p:blipFill>
          <a:blip r:embed="rId2"/>
          <a:srcRect l="0" t="0" r="0" b="14791"/>
          <a:stretch/>
        </p:blipFill>
        <p:spPr>
          <a:xfrm>
            <a:off x="123840" y="620640"/>
            <a:ext cx="1336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01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1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1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18" name="TextBox 10"/>
          <p:cNvSpPr/>
          <p:nvPr/>
        </p:nvSpPr>
        <p:spPr>
          <a:xfrm>
            <a:off x="298440" y="30337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хватке места для записи ответов на задания части С можно попросить у организатора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бланк ответов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Прямая соединительная линия 12"/>
          <p:cNvSpPr/>
          <p:nvPr/>
        </p:nvSpPr>
        <p:spPr>
          <a:xfrm>
            <a:off x="515880" y="270828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7"/>
          <p:cNvSpPr/>
          <p:nvPr/>
        </p:nvSpPr>
        <p:spPr>
          <a:xfrm>
            <a:off x="1403280" y="65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ходе из аудитории во время экзамена  бланки остаются на столе обучающегося, организатор визуально смотрит, со стола ничего не бе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2" descr="X:\11_Тихонов\2012\презент2012\221982-3d-Teeny-Person-With-A-Red-Exclamation-Point.jpg"/>
          <p:cNvPicPr/>
          <p:nvPr/>
        </p:nvPicPr>
        <p:blipFill>
          <a:blip r:embed="rId5"/>
          <a:srcRect l="0" t="0" r="14855" b="0"/>
          <a:stretch/>
        </p:blipFill>
        <p:spPr>
          <a:xfrm>
            <a:off x="7740720" y="762120"/>
            <a:ext cx="1165320" cy="1542960"/>
          </a:xfrm>
          <a:prstGeom prst="rect">
            <a:avLst/>
          </a:prstGeom>
          <a:ln w="0">
            <a:noFill/>
          </a:ln>
        </p:spPr>
      </p:pic>
      <p:sp>
        <p:nvSpPr>
          <p:cNvPr id="2022" name="Прямоугольник 36"/>
          <p:cNvSpPr/>
          <p:nvPr/>
        </p:nvSpPr>
        <p:spPr>
          <a:xfrm>
            <a:off x="1079640" y="44737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экзамена все участники должны сд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Picture 2" descr="X:\11_Тихонов\2012\презент2012\1088555-3d-Teeny-White-Person-Reading-A-Long-List.jpg"/>
          <p:cNvPicPr/>
          <p:nvPr/>
        </p:nvPicPr>
        <p:blipFill>
          <a:blip r:embed="rId6"/>
          <a:srcRect l="0" t="0" r="0" b="13747"/>
          <a:stretch/>
        </p:blipFill>
        <p:spPr>
          <a:xfrm>
            <a:off x="6389640" y="3033720"/>
            <a:ext cx="1517760" cy="1160280"/>
          </a:xfrm>
          <a:prstGeom prst="rect">
            <a:avLst/>
          </a:prstGeom>
          <a:ln w="0">
            <a:noFill/>
          </a:ln>
        </p:spPr>
      </p:pic>
      <p:sp>
        <p:nvSpPr>
          <p:cNvPr id="2024" name="Прямоугольник 37"/>
          <p:cNvSpPr/>
          <p:nvPr/>
        </p:nvSpPr>
        <p:spPr>
          <a:xfrm>
            <a:off x="670320" y="4932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Прямоугольник 39"/>
          <p:cNvSpPr/>
          <p:nvPr/>
        </p:nvSpPr>
        <p:spPr>
          <a:xfrm>
            <a:off x="731880" y="53942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 и К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3" descr="X:\11_Тихонов\2012\презент2012\221715-3d-Teeny-Person-Carrying-A-Blue-House.jpg"/>
          <p:cNvPicPr/>
          <p:nvPr/>
        </p:nvPicPr>
        <p:blipFill>
          <a:blip r:embed="rId7"/>
          <a:srcRect l="0" t="0" r="11381" b="7842"/>
          <a:stretch/>
        </p:blipFill>
        <p:spPr>
          <a:xfrm>
            <a:off x="3182760" y="5013360"/>
            <a:ext cx="776520" cy="91116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15"/>
          <a:stretch/>
        </p:blipFill>
        <p:spPr>
          <a:xfrm>
            <a:off x="360360" y="4384800"/>
            <a:ext cx="719280" cy="495000"/>
          </a:xfrm>
          <a:prstGeom prst="rect">
            <a:avLst/>
          </a:prstGeom>
          <a:ln w="0">
            <a:noFill/>
          </a:ln>
        </p:spPr>
      </p:pic>
      <p:sp>
        <p:nvSpPr>
          <p:cNvPr id="2028" name="Прямоугольник 42"/>
          <p:cNvSpPr/>
          <p:nvPr/>
        </p:nvSpPr>
        <p:spPr>
          <a:xfrm>
            <a:off x="34920" y="5807160"/>
            <a:ext cx="90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даче материалов необходимо расписаться в ведо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7"/>
          <p:cNvSpPr/>
          <p:nvPr/>
        </p:nvSpPr>
        <p:spPr>
          <a:xfrm>
            <a:off x="792000" y="1604880"/>
            <a:ext cx="68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кзамен не завершен по уважительной причине, то решение о его пересдаче выносит государственная экзаменационная комиссия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Прямая соединительная линия 21"/>
          <p:cNvSpPr/>
          <p:nvPr/>
        </p:nvSpPr>
        <p:spPr>
          <a:xfrm>
            <a:off x="515880" y="441000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32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38" name="TextBox 10"/>
          <p:cNvSpPr/>
          <p:nvPr/>
        </p:nvSpPr>
        <p:spPr>
          <a:xfrm>
            <a:off x="826920" y="3429000"/>
            <a:ext cx="8315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сбора экзаменационных материалов организаторы в аудиториях пересчитывают бланки и запечатывают их в специальные доставочные пакеты (конв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Прямоугольник 36"/>
          <p:cNvSpPr/>
          <p:nvPr/>
        </p:nvSpPr>
        <p:spPr>
          <a:xfrm>
            <a:off x="298440" y="800280"/>
            <a:ext cx="73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ать экзаменационные материалы можно раньше, если все выполнено, но не позднее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инут до конца самого эк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7907400" y="804960"/>
            <a:ext cx="841320" cy="1114200"/>
          </a:xfrm>
          <a:prstGeom prst="rect">
            <a:avLst/>
          </a:prstGeom>
          <a:ln w="0">
            <a:noFill/>
          </a:ln>
        </p:spPr>
      </p:pic>
      <p:sp>
        <p:nvSpPr>
          <p:cNvPr id="2041" name="Прямоугольник 20"/>
          <p:cNvSpPr/>
          <p:nvPr/>
        </p:nvSpPr>
        <p:spPr>
          <a:xfrm>
            <a:off x="108000" y="2457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рганизаторы самостоятельно собирают экзаменацион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X:\11_Тихонов\2012\презент2012\221720-3d-Teeny-Person-Carrying-A-Box.jpg"/>
          <p:cNvPicPr/>
          <p:nvPr/>
        </p:nvPicPr>
        <p:blipFill>
          <a:blip r:embed="rId4"/>
          <a:srcRect l="0" t="0" r="0" b="9738"/>
          <a:stretch/>
        </p:blipFill>
        <p:spPr>
          <a:xfrm>
            <a:off x="3598920" y="5054760"/>
            <a:ext cx="1298520" cy="132696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3" descr="X:\11_Тихонов\2012\презент2012\1087249-3d-Teeny-White-Teenage-Person-Stepping-On-Notebooks.jpg"/>
          <p:cNvPicPr/>
          <p:nvPr/>
        </p:nvPicPr>
        <p:blipFill>
          <a:blip r:embed="rId5"/>
          <a:srcRect l="0" t="0" r="0" b="11606"/>
          <a:stretch/>
        </p:blipFill>
        <p:spPr>
          <a:xfrm>
            <a:off x="3598920" y="170028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1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дном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из обязательных предметов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русский язык или математика), то он может пересдать этот экзамен в этом же году в резервные дн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954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В 9 классе могут повторно сдать экзамены обучающиеся, получившие неудовлетворительные результаты по двум учебным предметам в резервные дн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кже допускаются к пересдаче в 9 и 11 классах обучающиеся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явившиеся на экзамены по уважительным причинам (болезнь или иные обстоятельства, подтвержденные документально)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завершившие выполнение экзаменационной работы  по уважительным причинам (болезнь или иные обстоятельства, подтвержденные документально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ssandra"/>
              </a:rPr>
              <a:t>Апелляц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пелляция – это письменное заявление участника ГИА либо о нарушении установленного порядка проведения ЕГЭ, ОГЭ; либо о несогласии с результатами ЕГЭ, ОГЭ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5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Экзамен проходил с нарушениями? Результат по баллам не удовлетворил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57" name="TextBox 7"/>
          <p:cNvSpPr/>
          <p:nvPr/>
        </p:nvSpPr>
        <p:spPr>
          <a:xfrm>
            <a:off x="3581280" y="652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0"/>
          <p:cNvSpPr/>
          <p:nvPr/>
        </p:nvSpPr>
        <p:spPr>
          <a:xfrm>
            <a:off x="1368360" y="15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Box 11"/>
          <p:cNvSpPr/>
          <p:nvPr/>
        </p:nvSpPr>
        <p:spPr>
          <a:xfrm>
            <a:off x="575928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бал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Прямоугольник 1"/>
          <p:cNvSpPr/>
          <p:nvPr/>
        </p:nvSpPr>
        <p:spPr>
          <a:xfrm>
            <a:off x="306360" y="22417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и установленного порядка провед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Прямоугольник 13"/>
          <p:cNvSpPr/>
          <p:nvPr/>
        </p:nvSpPr>
        <p:spPr>
          <a:xfrm>
            <a:off x="304920" y="4157640"/>
            <a:ext cx="36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бланков ЕГ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ыхода из ППЭ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лномоченному представителю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Прямоугольник 14"/>
          <p:cNvSpPr/>
          <p:nvPr/>
        </p:nvSpPr>
        <p:spPr>
          <a:xfrm>
            <a:off x="4429080" y="4157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двух рабочих дней после официального объявления результатов экзамена, руководителю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4200480" y="1233360"/>
            <a:ext cx="839880" cy="1113120"/>
          </a:xfrm>
          <a:prstGeom prst="rect">
            <a:avLst/>
          </a:prstGeom>
          <a:ln w="0">
            <a:noFill/>
          </a:ln>
        </p:spPr>
      </p:pic>
      <p:sp>
        <p:nvSpPr>
          <p:cNvPr id="2064" name="Дуга 20"/>
          <p:cNvSpPr/>
          <p:nvPr/>
        </p:nvSpPr>
        <p:spPr>
          <a:xfrm>
            <a:off x="4500720" y="879480"/>
            <a:ext cx="2232000" cy="1325520"/>
          </a:xfrm>
          <a:custGeom>
            <a:avLst/>
            <a:gdLst/>
            <a:ahLst/>
            <a:rect l="l" t="t" r="r" b="b"/>
            <a:pathLst>
              <a:path stroke="0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  <a:lnTo>
                  <a:pt x="1116013" y="662782"/>
                </a:lnTo>
                <a:cubicBezTo>
                  <a:pt x="1116013" y="441855"/>
                  <a:pt x="1116012" y="220927"/>
                  <a:pt x="1116012" y="0"/>
                </a:cubicBezTo>
                <a:close/>
              </a:path>
              <a:path fill="none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</a:path>
            </a:pathLst>
          </a:custGeom>
          <a:noFill/>
          <a:ln w="44280">
            <a:solidFill>
              <a:srgbClr val="c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Дуга 21"/>
          <p:cNvSpPr/>
          <p:nvPr/>
        </p:nvSpPr>
        <p:spPr>
          <a:xfrm flipH="1">
            <a:off x="2267640" y="879480"/>
            <a:ext cx="2303640" cy="1440000"/>
          </a:xfrm>
          <a:custGeom>
            <a:avLst/>
            <a:gdLst/>
            <a:ahLst/>
            <a:rect l="l" t="t" r="r" b="b"/>
            <a:pathLst>
              <a:path stroke="0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  <a:lnTo>
                  <a:pt x="1151731" y="719932"/>
                </a:lnTo>
                <a:lnTo>
                  <a:pt x="1151731" y="0"/>
                </a:lnTo>
                <a:close/>
              </a:path>
              <a:path fill="none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Прямоугольник 1"/>
          <p:cNvSpPr/>
          <p:nvPr/>
        </p:nvSpPr>
        <p:spPr>
          <a:xfrm>
            <a:off x="5329080" y="2205000"/>
            <a:ext cx="33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ами) по ЕГЭ и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7"/>
          <p:cNvSpPr/>
          <p:nvPr/>
        </p:nvSpPr>
        <p:spPr>
          <a:xfrm>
            <a:off x="304920" y="5718240"/>
            <a:ext cx="83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заседании Конфликтной комиссии принимаются решения об отклонении или удовлетворении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7"/>
          <p:cNvSpPr/>
          <p:nvPr/>
        </p:nvSpPr>
        <p:spPr>
          <a:xfrm>
            <a:off x="3581280" y="3429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AutoShape 17"/>
          <p:cNvSpPr/>
          <p:nvPr/>
        </p:nvSpPr>
        <p:spPr>
          <a:xfrm rot="16200000">
            <a:off x="2126160" y="3774240"/>
            <a:ext cx="300240" cy="161640"/>
          </a:xfrm>
          <a:prstGeom prst="leftArrow">
            <a:avLst>
              <a:gd name="adj1" fmla="val 50000"/>
              <a:gd name="adj2" fmla="val 4365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7"/>
          <p:cNvSpPr/>
          <p:nvPr/>
        </p:nvSpPr>
        <p:spPr>
          <a:xfrm rot="16200000">
            <a:off x="6582600" y="3774240"/>
            <a:ext cx="300240" cy="162000"/>
          </a:xfrm>
          <a:prstGeom prst="leftArrow">
            <a:avLst>
              <a:gd name="adj1" fmla="val 50000"/>
              <a:gd name="adj2" fmla="val 435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autoRev="1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6" dur="1000" fill="hold"/>
                                        <p:tgtEl>
                                          <p:spTgt spid="2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8" dur="1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формой ГИА-9 является ОГ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обучающихся с ОВЗ, детей-инвалидов и инвалидов итоговая аттестация проводится в форме ГВ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проведения ЕГЭ и ОГЭ составляетс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диное расписание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Результаты  рассмотрения апелляции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X:\11_Тихонов\2012\презент2012\1087186-3d-Teeny-White-Person-Typing-On-A-Keyboard-By-WWW.jpg"/>
          <p:cNvPicPr/>
          <p:nvPr/>
        </p:nvPicPr>
        <p:blipFill>
          <a:blip r:embed="rId1"/>
          <a:srcRect l="0" t="0" r="0" b="14614"/>
          <a:stretch/>
        </p:blipFill>
        <p:spPr>
          <a:xfrm>
            <a:off x="6788160" y="476280"/>
            <a:ext cx="19051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074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7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осмотреть  и ознакомиться с информацией по ЕГЭ и ОГЭ можно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1" name="Rectangle 1"/>
          <p:cNvSpPr/>
          <p:nvPr/>
        </p:nvSpPr>
        <p:spPr>
          <a:xfrm>
            <a:off x="287280" y="1360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фициальном информационном портале ЕГЭ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ww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stest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Прямоугольник 10"/>
          <p:cNvSpPr/>
          <p:nvPr/>
        </p:nvSpPr>
        <p:spPr>
          <a:xfrm>
            <a:off x="287280" y="3944880"/>
            <a:ext cx="856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Государственного бюджетного учреждения Ростовской области Ростовского  центра обработки информации в сфере образования (далее – РО ЦОИСО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coiso@rost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Кашарского отдела образования администрации Кашарского район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kasharsk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Заголовок 3" descr=""/>
          <p:cNvPicPr/>
          <p:nvPr/>
        </p:nvPicPr>
        <p:blipFill>
          <a:blip r:embed="rId1"/>
          <a:stretch/>
        </p:blipFill>
        <p:spPr>
          <a:xfrm>
            <a:off x="1243080" y="128592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4" name="Диаграмма 4"/>
          <p:cNvGraphicFramePr/>
          <p:nvPr/>
        </p:nvGraphicFramePr>
        <p:xfrm>
          <a:off x="985680" y="1760400"/>
          <a:ext cx="419760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5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760400"/>
                    <a:ext cx="41976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6" name="Picture 4" descr="C:\Users\kadach_tg\Desktop\142237_mobile_512x512.png"/>
          <p:cNvPicPr/>
          <p:nvPr/>
        </p:nvPicPr>
        <p:blipFill>
          <a:blip r:embed="rId4"/>
          <a:stretch/>
        </p:blipFill>
        <p:spPr>
          <a:xfrm rot="20370000">
            <a:off x="5241600" y="360324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6" descr="C:\Users\kadach_tg\Desktop\0_1146b0_759023cd_S.png"/>
          <p:cNvPicPr/>
          <p:nvPr/>
        </p:nvPicPr>
        <p:blipFill>
          <a:blip r:embed="rId5"/>
          <a:stretch/>
        </p:blipFill>
        <p:spPr>
          <a:xfrm rot="354600">
            <a:off x="4711320" y="4906800"/>
            <a:ext cx="765360" cy="83052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7" descr="C:\Users\kadach_tg\Desktop\5a8ad4ab9ea93161ae4ebe82.png"/>
          <p:cNvPicPr/>
          <p:nvPr/>
        </p:nvPicPr>
        <p:blipFill>
          <a:blip r:embed="rId6"/>
          <a:stretch/>
        </p:blipFill>
        <p:spPr>
          <a:xfrm>
            <a:off x="4789440" y="5010120"/>
            <a:ext cx="514440" cy="609480"/>
          </a:xfrm>
          <a:prstGeom prst="rect">
            <a:avLst/>
          </a:prstGeom>
          <a:ln w="0">
            <a:noFill/>
          </a:ln>
        </p:spPr>
      </p:pic>
      <p:cxnSp>
        <p:nvCxnSpPr>
          <p:cNvPr id="2089" name="Соединительная линия уступом 15"/>
          <p:cNvCxnSpPr>
            <a:stCxn id="2086" idx="1"/>
          </p:cNvCxnSpPr>
          <p:nvPr/>
        </p:nvCxnSpPr>
        <p:spPr>
          <a:xfrm rot="10800000">
            <a:off x="4193280" y="3493440"/>
            <a:ext cx="1072440" cy="627840"/>
          </a:xfrm>
          <a:prstGeom prst="bentConnector3">
            <a:avLst>
              <a:gd name="adj1" fmla="val 39758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090" name="Соединительная линия уступом 21"/>
          <p:cNvCxnSpPr>
            <a:stCxn id="2087" idx="1"/>
          </p:cNvCxnSpPr>
          <p:nvPr/>
        </p:nvCxnSpPr>
        <p:spPr>
          <a:xfrm rot="10800000">
            <a:off x="3276000" y="4868280"/>
            <a:ext cx="1437120" cy="415080"/>
          </a:xfrm>
          <a:prstGeom prst="bentConnector3">
            <a:avLst>
              <a:gd name="adj1" fmla="val 100225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091" name="Прямоугольник 49"/>
          <p:cNvSpPr/>
          <p:nvPr/>
        </p:nvSpPr>
        <p:spPr>
          <a:xfrm>
            <a:off x="6081840" y="3925800"/>
            <a:ext cx="191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Донец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51"/>
          <p:cNvSpPr/>
          <p:nvPr/>
        </p:nvSpPr>
        <p:spPr>
          <a:xfrm>
            <a:off x="5516640" y="5227560"/>
            <a:ext cx="24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Азовский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55"/>
          <p:cNvSpPr/>
          <p:nvPr/>
        </p:nvSpPr>
        <p:spPr>
          <a:xfrm>
            <a:off x="5516640" y="4653000"/>
            <a:ext cx="2496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Ворошиловский 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Заголовок 3" descr=""/>
          <p:cNvPicPr/>
          <p:nvPr/>
        </p:nvPicPr>
        <p:blipFill>
          <a:blip r:embed="rId7"/>
          <a:stretch/>
        </p:blipFill>
        <p:spPr>
          <a:xfrm>
            <a:off x="5327640" y="2084400"/>
            <a:ext cx="3225960" cy="646200"/>
          </a:xfrm>
          <a:prstGeom prst="rect">
            <a:avLst/>
          </a:prstGeom>
          <a:ln w="0">
            <a:noFill/>
          </a:ln>
        </p:spPr>
      </p:pic>
      <p:sp>
        <p:nvSpPr>
          <p:cNvPr id="2095" name="Прямоугольник 63"/>
          <p:cNvSpPr/>
          <p:nvPr/>
        </p:nvSpPr>
        <p:spPr>
          <a:xfrm>
            <a:off x="5303880" y="2581200"/>
            <a:ext cx="3267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далены за наличие запрещенных средств с повторным допу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 сдаче ГИА-9 в сентябрьски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6" name="Заголовок 3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7" name="Диаграмма 4"/>
          <p:cNvGraphicFramePr/>
          <p:nvPr/>
        </p:nvGraphicFramePr>
        <p:xfrm>
          <a:off x="1452600" y="1596960"/>
          <a:ext cx="3808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596960"/>
                    <a:ext cx="3808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9" name="Picture 3" descr="C:\Users\kadach_tg\Desktop\calculator_yellow.png"/>
          <p:cNvPicPr/>
          <p:nvPr/>
        </p:nvPicPr>
        <p:blipFill>
          <a:blip r:embed="rId4"/>
          <a:stretch/>
        </p:blipFill>
        <p:spPr>
          <a:xfrm rot="20838600">
            <a:off x="1440000" y="1722600"/>
            <a:ext cx="628560" cy="671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C:\Users\kadach_tg\Desktop\142237_mobile_512x512.png"/>
          <p:cNvPicPr/>
          <p:nvPr/>
        </p:nvPicPr>
        <p:blipFill>
          <a:blip r:embed="rId5"/>
          <a:stretch/>
        </p:blipFill>
        <p:spPr>
          <a:xfrm rot="20370000">
            <a:off x="4156200" y="3623760"/>
            <a:ext cx="768240" cy="766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6" descr="C:\Users\kadach_tg\Desktop\0_1146b0_759023cd_S.png"/>
          <p:cNvPicPr/>
          <p:nvPr/>
        </p:nvPicPr>
        <p:blipFill>
          <a:blip r:embed="rId6"/>
          <a:stretch/>
        </p:blipFill>
        <p:spPr>
          <a:xfrm rot="354600">
            <a:off x="1329840" y="3559320"/>
            <a:ext cx="765360" cy="8301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7" descr="C:\Users\kadach_tg\Desktop\5a8ad4ab9ea93161ae4ebe82.png"/>
          <p:cNvPicPr/>
          <p:nvPr/>
        </p:nvPicPr>
        <p:blipFill>
          <a:blip r:embed="rId7"/>
          <a:stretch/>
        </p:blipFill>
        <p:spPr>
          <a:xfrm>
            <a:off x="1407960" y="3662280"/>
            <a:ext cx="514440" cy="609840"/>
          </a:xfrm>
          <a:prstGeom prst="rect">
            <a:avLst/>
          </a:prstGeom>
          <a:ln w="0">
            <a:noFill/>
          </a:ln>
        </p:spPr>
      </p:pic>
      <p:cxnSp>
        <p:nvCxnSpPr>
          <p:cNvPr id="2103" name="Соединительная линия уступом 6"/>
          <p:cNvCxnSpPr>
            <a:stCxn id="2099" idx="3"/>
          </p:cNvCxnSpPr>
          <p:nvPr/>
        </p:nvCxnSpPr>
        <p:spPr>
          <a:xfrm>
            <a:off x="2131920" y="1766520"/>
            <a:ext cx="766080" cy="244800"/>
          </a:xfrm>
          <a:prstGeom prst="bentConnector3">
            <a:avLst>
              <a:gd name="adj1" fmla="val 101316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4" name="Соединительная линия уступом 15"/>
          <p:cNvCxnSpPr/>
          <p:nvPr/>
        </p:nvCxnSpPr>
        <p:spPr>
          <a:xfrm flipV="1" rot="16200000">
            <a:off x="4149360" y="3037680"/>
            <a:ext cx="480240" cy="473760"/>
          </a:xfrm>
          <a:prstGeom prst="bentConnector3">
            <a:avLst>
              <a:gd name="adj1" fmla="val 99549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5" name="Соединительная линия уступом 21"/>
          <p:cNvCxnSpPr>
            <a:stCxn id="2102" idx="0"/>
          </p:cNvCxnSpPr>
          <p:nvPr/>
        </p:nvCxnSpPr>
        <p:spPr>
          <a:xfrm flipH="1" flipV="1" rot="5400000">
            <a:off x="1802160" y="3260160"/>
            <a:ext cx="264240" cy="540360"/>
          </a:xfrm>
          <a:prstGeom prst="bentConnector2">
            <a:avLst/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106" name="Прямоугольник 45"/>
          <p:cNvSpPr/>
          <p:nvPr/>
        </p:nvSpPr>
        <p:spPr>
          <a:xfrm>
            <a:off x="5425920" y="4017960"/>
            <a:ext cx="1822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кс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Овал 1037"/>
          <p:cNvGrpSpPr/>
          <p:nvPr/>
        </p:nvGrpSpPr>
        <p:grpSpPr>
          <a:xfrm>
            <a:off x="7338960" y="3943440"/>
            <a:ext cx="488880" cy="420480"/>
            <a:chOff x="7338960" y="3943440"/>
            <a:chExt cx="488880" cy="420480"/>
          </a:xfrm>
        </p:grpSpPr>
        <p:pic>
          <p:nvPicPr>
            <p:cNvPr id="2108" name="Овал 1037" descr=""/>
            <p:cNvPicPr/>
            <p:nvPr/>
          </p:nvPicPr>
          <p:blipFill>
            <a:blip r:embed="rId8"/>
            <a:stretch/>
          </p:blipFill>
          <p:spPr>
            <a:xfrm>
              <a:off x="7338960" y="39434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>
              <a:off x="7426440" y="402264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Прямоугольник 47"/>
          <p:cNvSpPr/>
          <p:nvPr/>
        </p:nvSpPr>
        <p:spPr>
          <a:xfrm>
            <a:off x="4778280" y="455292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станти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Овал 48"/>
          <p:cNvGrpSpPr/>
          <p:nvPr/>
        </p:nvGrpSpPr>
        <p:grpSpPr>
          <a:xfrm>
            <a:off x="7338960" y="4479840"/>
            <a:ext cx="488880" cy="420840"/>
            <a:chOff x="7338960" y="4479840"/>
            <a:chExt cx="488880" cy="420840"/>
          </a:xfrm>
        </p:grpSpPr>
        <p:pic>
          <p:nvPicPr>
            <p:cNvPr id="2112" name="Овал 48" descr=""/>
            <p:cNvPicPr/>
            <p:nvPr/>
          </p:nvPicPr>
          <p:blipFill>
            <a:blip r:embed="rId9"/>
            <a:stretch/>
          </p:blipFill>
          <p:spPr>
            <a:xfrm>
              <a:off x="7338960" y="447984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"/>
            <p:cNvSpPr/>
            <p:nvPr/>
          </p:nvSpPr>
          <p:spPr>
            <a:xfrm>
              <a:off x="7426440" y="455616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Прямоугольник 49"/>
          <p:cNvSpPr/>
          <p:nvPr/>
        </p:nvSpPr>
        <p:spPr>
          <a:xfrm>
            <a:off x="4778280" y="505944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рты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Овал 50"/>
          <p:cNvGrpSpPr/>
          <p:nvPr/>
        </p:nvGrpSpPr>
        <p:grpSpPr>
          <a:xfrm>
            <a:off x="7338960" y="4992840"/>
            <a:ext cx="488880" cy="420480"/>
            <a:chOff x="7338960" y="4992840"/>
            <a:chExt cx="488880" cy="420480"/>
          </a:xfrm>
        </p:grpSpPr>
        <p:pic>
          <p:nvPicPr>
            <p:cNvPr id="2116" name="Овал 50" descr=""/>
            <p:cNvPicPr/>
            <p:nvPr/>
          </p:nvPicPr>
          <p:blipFill>
            <a:blip r:embed="rId10"/>
            <a:stretch/>
          </p:blipFill>
          <p:spPr>
            <a:xfrm>
              <a:off x="7338960" y="49928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"/>
            <p:cNvSpPr/>
            <p:nvPr/>
          </p:nvSpPr>
          <p:spPr>
            <a:xfrm>
              <a:off x="7426440" y="506880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Прямоугольник 51"/>
          <p:cNvSpPr/>
          <p:nvPr/>
        </p:nvSpPr>
        <p:spPr>
          <a:xfrm>
            <a:off x="4859280" y="55418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арас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Овал 52"/>
          <p:cNvGrpSpPr/>
          <p:nvPr/>
        </p:nvGrpSpPr>
        <p:grpSpPr>
          <a:xfrm>
            <a:off x="7338960" y="5473800"/>
            <a:ext cx="488880" cy="420480"/>
            <a:chOff x="7338960" y="5473800"/>
            <a:chExt cx="488880" cy="420480"/>
          </a:xfrm>
        </p:grpSpPr>
        <p:pic>
          <p:nvPicPr>
            <p:cNvPr id="2120" name="Овал 52" descr=""/>
            <p:cNvPicPr/>
            <p:nvPr/>
          </p:nvPicPr>
          <p:blipFill>
            <a:blip r:embed="rId11"/>
            <a:stretch/>
          </p:blipFill>
          <p:spPr>
            <a:xfrm>
              <a:off x="7338960" y="547380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7426440" y="554976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Прямоугольник 53"/>
          <p:cNvSpPr/>
          <p:nvPr/>
        </p:nvSpPr>
        <p:spPr>
          <a:xfrm>
            <a:off x="5587920" y="1900080"/>
            <a:ext cx="1660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аль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Овал 54"/>
          <p:cNvGrpSpPr/>
          <p:nvPr/>
        </p:nvGrpSpPr>
        <p:grpSpPr>
          <a:xfrm>
            <a:off x="7338960" y="1865160"/>
            <a:ext cx="488880" cy="420840"/>
            <a:chOff x="7338960" y="1865160"/>
            <a:chExt cx="488880" cy="420840"/>
          </a:xfrm>
        </p:grpSpPr>
        <p:pic>
          <p:nvPicPr>
            <p:cNvPr id="2124" name="Овал 54" descr=""/>
            <p:cNvPicPr/>
            <p:nvPr/>
          </p:nvPicPr>
          <p:blipFill>
            <a:blip r:embed="rId12"/>
            <a:stretch/>
          </p:blipFill>
          <p:spPr>
            <a:xfrm>
              <a:off x="7338960" y="186516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"/>
            <p:cNvSpPr/>
            <p:nvPr/>
          </p:nvSpPr>
          <p:spPr>
            <a:xfrm>
              <a:off x="7426440" y="194328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Прямоугольник 55"/>
          <p:cNvSpPr/>
          <p:nvPr/>
        </p:nvSpPr>
        <p:spPr>
          <a:xfrm>
            <a:off x="4152960" y="2273400"/>
            <a:ext cx="3117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Лениинский, Первомайский, Пролетарский рай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Овал 56"/>
          <p:cNvGrpSpPr/>
          <p:nvPr/>
        </p:nvGrpSpPr>
        <p:grpSpPr>
          <a:xfrm>
            <a:off x="7338960" y="2438280"/>
            <a:ext cx="488880" cy="420840"/>
            <a:chOff x="7338960" y="2438280"/>
            <a:chExt cx="488880" cy="420840"/>
          </a:xfrm>
        </p:grpSpPr>
        <p:pic>
          <p:nvPicPr>
            <p:cNvPr id="2128" name="Овал 56" descr=""/>
            <p:cNvPicPr/>
            <p:nvPr/>
          </p:nvPicPr>
          <p:blipFill>
            <a:blip r:embed="rId13"/>
            <a:stretch/>
          </p:blipFill>
          <p:spPr>
            <a:xfrm>
              <a:off x="7338960" y="243828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"/>
            <p:cNvSpPr/>
            <p:nvPr/>
          </p:nvSpPr>
          <p:spPr>
            <a:xfrm>
              <a:off x="7426440" y="2516040"/>
              <a:ext cx="311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Прямоугольник 57"/>
          <p:cNvSpPr/>
          <p:nvPr/>
        </p:nvSpPr>
        <p:spPr>
          <a:xfrm>
            <a:off x="5711760" y="3063960"/>
            <a:ext cx="153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Зв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Овал 58"/>
          <p:cNvGrpSpPr/>
          <p:nvPr/>
        </p:nvGrpSpPr>
        <p:grpSpPr>
          <a:xfrm>
            <a:off x="7338960" y="2975040"/>
            <a:ext cx="488880" cy="420480"/>
            <a:chOff x="7338960" y="2975040"/>
            <a:chExt cx="488880" cy="420480"/>
          </a:xfrm>
        </p:grpSpPr>
        <p:pic>
          <p:nvPicPr>
            <p:cNvPr id="2132" name="Овал 58" descr=""/>
            <p:cNvPicPr/>
            <p:nvPr/>
          </p:nvPicPr>
          <p:blipFill>
            <a:blip r:embed="rId14"/>
            <a:stretch/>
          </p:blipFill>
          <p:spPr>
            <a:xfrm>
              <a:off x="7338960" y="29750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7426440" y="305424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Прямоугольник 59"/>
          <p:cNvSpPr/>
          <p:nvPr/>
        </p:nvSpPr>
        <p:spPr>
          <a:xfrm>
            <a:off x="5210280" y="3449520"/>
            <a:ext cx="2038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Овал 60"/>
          <p:cNvGrpSpPr/>
          <p:nvPr/>
        </p:nvGrpSpPr>
        <p:grpSpPr>
          <a:xfrm>
            <a:off x="7334280" y="3438360"/>
            <a:ext cx="487440" cy="420840"/>
            <a:chOff x="7334280" y="3438360"/>
            <a:chExt cx="487440" cy="420840"/>
          </a:xfrm>
        </p:grpSpPr>
        <p:pic>
          <p:nvPicPr>
            <p:cNvPr id="2136" name="Овал 60" descr=""/>
            <p:cNvPicPr/>
            <p:nvPr/>
          </p:nvPicPr>
          <p:blipFill>
            <a:blip r:embed="rId15"/>
            <a:stretch/>
          </p:blipFill>
          <p:spPr>
            <a:xfrm>
              <a:off x="7334280" y="3438360"/>
              <a:ext cx="487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7" name=""/>
            <p:cNvSpPr/>
            <p:nvPr/>
          </p:nvSpPr>
          <p:spPr>
            <a:xfrm>
              <a:off x="7421400" y="3516480"/>
              <a:ext cx="311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Заголовок 3" descr=""/>
          <p:cNvPicPr/>
          <p:nvPr/>
        </p:nvPicPr>
        <p:blipFill>
          <a:blip r:embed="rId16"/>
          <a:stretch/>
        </p:blipFill>
        <p:spPr>
          <a:xfrm>
            <a:off x="1427040" y="4443480"/>
            <a:ext cx="3164040" cy="64620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оугольник 104"/>
          <p:cNvSpPr/>
          <p:nvPr/>
        </p:nvSpPr>
        <p:spPr>
          <a:xfrm>
            <a:off x="1376280" y="4940280"/>
            <a:ext cx="3267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зультаты ЕГЭ аннул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 итогам просмотра архива видеозапи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Номер слайда 3"/>
          <p:cNvSpPr/>
          <p:nvPr/>
        </p:nvSpPr>
        <p:spPr>
          <a:xfrm>
            <a:off x="8675640" y="5697360"/>
            <a:ext cx="46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AEA-DF72-4164-B0B8-1F08C1EB4961}" type="slidenum">
              <a:rPr b="0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8"/>
          <p:cNvSpPr/>
          <p:nvPr/>
        </p:nvSpPr>
        <p:spPr>
          <a:xfrm>
            <a:off x="184320" y="2202480"/>
            <a:ext cx="8635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ая информационная и разъяснительная работа с обучающимися и их родителями – желают изменить перечень предметов, не знают регламента проведения экзаменов  в форме ОГЭ и ГВЭ, не знают процедуры оформления апелля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трольность процесса проведения экзамена в ППЭ (нарушения организаторов,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исутствие учителей предмет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рганизация обучения выпускников: ознакомление с моделями экзаменов, изучение правил заполнения бланков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 http://fipi.ru/; oge-i-gve-9/g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аботников ППЭ, руководителей ППЭ,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 председателей и членов ТЭК, ТПК, 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4"/>
          <p:cNvSpPr/>
          <p:nvPr/>
        </p:nvSpPr>
        <p:spPr>
          <a:xfrm>
            <a:off x="1116000" y="1385640"/>
            <a:ext cx="783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блемы и вопросы, требующие особого внимания при организации подготовки к проведению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44" name="Picture 2" descr="http://cf.ppt-online.org/files/slide/e/egnR3fbJaZlNHrTdjwOo6IxhWYPGtz5ys8Eq19/slide-33.jpg"/>
          <p:cNvPicPr/>
          <p:nvPr/>
        </p:nvPicPr>
        <p:blipFill>
          <a:blip r:embed="rId1"/>
          <a:stretch/>
        </p:blipFill>
        <p:spPr>
          <a:xfrm>
            <a:off x="0" y="-457200"/>
            <a:ext cx="9685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ЕГЭ, ОГЭ -201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50920" y="1557360"/>
            <a:ext cx="86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олучить знания – дело долгое и трудное, а показать результаты своих достижений еще сложнее: как будет проходить ЕГЭ и ОГЭ в 2019 году и какие изменения в эти экзамены внесло Министерство образования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уть к достижению своих целей нелегок, и приходится с малых лет «бороться и искать». Первые школьники, имеющие опыт прохождения сдачи ЕГЭ и ОГЭ уже окончили ВУЗы и колледжи, а что предстоит сегодняшним будущим выпускникам школ, сколько предметов надо будет сдавать в 2019 году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Итоговое сочинени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287280" y="1268280"/>
            <a:ext cx="86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роводится в первую среду декабря, поэтому в 2018 году оно будет назначено на  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декабря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Любой ученик, не сдавший сочинение с первой попытки, может ее повторить, но в случае повторного провала придется отложить все экзамены на следующий год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явление на участие в ЕГЭ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февраля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ача заявления для участия в ГИА-9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марта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явление</a:t>
            </a: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Досрочный период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перио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езервные д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полнительный период (сентябрьские сроки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08000" y="297000"/>
            <a:ext cx="7956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Расписание экзаменов в 9 и 11 класса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ssandra"/>
              </a:rPr>
              <a:t>В 11 классе два обязательных экзамена: русский язык и математика 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900000" y="1160640"/>
            <a:ext cx="79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Математика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стобалльной систем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едметы по выбору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946" name="Рисунок 4" descr="http://steshka.ru/wp-content/uploads/2015/05/kartinki_shkola_deti_uchitelya_7.jpg"/>
          <p:cNvPicPr/>
          <p:nvPr/>
        </p:nvPicPr>
        <p:blipFill>
          <a:blip r:embed="rId1"/>
          <a:stretch/>
        </p:blipFill>
        <p:spPr>
          <a:xfrm>
            <a:off x="0" y="180828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ГИА - 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863640" y="119664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оличество экзаме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вятиклассники должны сдать четыре экзамена: </a:t>
            </a: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два обязательных экзамена по русскому языку и математик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и два обязательных экзамена по выбору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 числа учебных предметов: физика, химия, биология, литература, география, история, обществознание, иностранные языки, информатика и ИКТ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8-11-26T18:25:24Z</dcterms:modified>
  <cp:revision>66</cp:revision>
  <dc:subject/>
  <dc:title>Слайд 1</dc:title>
</cp:coreProperties>
</file>