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4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dt" idx="1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move the slide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ftr" idx="1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 type="sldNum" idx="1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023C-FD1A-427A-B4D8-7D73EA3EF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9FD8-04E4-428E-93CF-5C6EB0E93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F73-BEE5-450A-9739-D6C3F7131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анимацию на печат маш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,  требующие особого внимания в организации подготовки к проведению ГИА-9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и разъяснительная работа с участниками ГИА-9 и их родителями (законными представителям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тавки участников ОГЭ при сдаче экзаменов по выбору в ПП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оснащение ППЭ по физике, информатике и ИКТ, иностранным язы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 контроля со стороны Рособрнадзора за организацией  и проведением ОГ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http://fipi.ru/ ; oge-i-gve-9/g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организаторов, включая    руководителей ППЭ  и работы по привлечению  общественных наблюд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общая задача – обеспечить подготовку к ГИА на высоком уровне и выполнить установленные требования к прозрачности и честности проведения экзамена в полной м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734-0FC1-4CCC-95BB-27BAB2447A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6CB7-7148-4ECF-9F52-AEEB627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D909-BEC9-4C8C-8375-5011E74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CD788-8B08-451B-B33A-29BC4D4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1A59-24E8-411B-AA6A-CC0EE40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3D1B8-728F-4BB0-9474-55D5FE9C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02FA-1704-40F7-B669-61698135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C838-2296-4BE3-9E2C-9B1E349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6228-C07D-4F6E-988B-0D723F78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D41FE-05DC-4BA6-A1B8-4CEE8B73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9E830-1245-43C4-84E2-296D36BA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6AB83-F584-421E-B628-144B4A19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EE710-14E0-4282-95E7-19671140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B4F0B-F3FF-4FE3-BD9D-D862A62E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71AD8-AC2A-4E51-A3CE-C3903F9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5865-004B-4EA3-9E94-B62B3420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623C0-7089-47FA-9008-3F0F401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B025D-0316-41DD-9E3D-6B118F6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3ADEC-15CA-45D7-8285-83546C4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56BB2-3B96-4DDF-ACFA-80D3C306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4906F-A212-4084-9EB2-FB5AE2C5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47CDB-7982-4DBB-843A-138F08B2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ED3F6-817A-477A-9600-9574A91F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830BE-FFD1-4218-9311-6CBC6759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67C5B-FDB1-4D6C-85C6-E76E298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48B41-8087-4AFF-8580-3E25A2C2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0A395-3D0A-4C88-ACB0-84DA362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243A3-F79D-4139-B3F6-5E828FDE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6A336-16EB-4723-8172-07A06E7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23218-CFAC-4F76-A036-739B936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0765D-E9FF-47B8-BE1A-A4BFB5D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1CF-1167-486D-A876-626C5AFD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D854B-F061-4467-9776-A038349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B59CD-0989-440B-80C1-0B4A8922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72A95-1891-44EA-ACFC-3E75AB67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E76E-B1D8-4AA7-93AF-6D676B52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1664-3B8C-4A5C-860D-6E0385D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7EF6A-8771-4BFC-9C9B-60E95FD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E501-0EBA-45FE-BBA6-A14F236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6AA3-CD43-42B0-BF64-50957F9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C6599-8B20-4F1F-A0D6-0545482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40FF3-C228-4D16-B4E6-184373E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356-1A19-4ED5-8E52-D3247461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1B16A-5404-41BF-8668-B5657CA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22CB6-6E57-456E-A242-CADDB9F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17BB-C991-424F-9A76-70D947E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80C0F-8132-451F-9511-A7198DD3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31B8-ADCC-4461-8A2D-09A4D62D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9BA62-4CEF-49A0-A8F2-06D1B87C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0AD17-A324-4CF2-80A0-6217029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956FC-2142-49BC-8029-4DD72E2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FF562-557D-45D8-8080-085BCA2D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D5BC9-7DD1-4A36-9A84-8FDC5D3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D83-572E-4009-AF84-F0EB7C75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CEDB-B0E3-46F5-AE97-7B99EB84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E6264-AB2E-44B4-8764-7ADE1F8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2A4A7-09C0-48CA-B977-1EC9E2C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72E7A-5743-41E2-ABFB-F405210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3C7DA-BEC6-4809-AAD0-D9BD340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3607F-B77F-4467-8FCA-22669EB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0D5A5-0EBA-4930-B5C9-143876F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A78E2-402C-40E9-B472-037DB78C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C159A-DE99-4C61-A49C-B0D0E78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B2054-A7CB-455A-A9EC-116BEA8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429-E999-4C47-9A4F-C41D59C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D2023-CAD7-409D-B2B9-CA16C3A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9C365-06B4-4E59-9E15-46D4589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3DA4D-9D49-4DED-9746-16F0B35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4D63D-B4DA-402B-868E-E80C3A5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74DB9-0BB9-4817-B6BB-98AA5A0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A0218-2656-475E-BFB0-6472D40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5D049-FA80-43F1-A47E-107E1F9E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382F3-6F63-4810-A218-B39234BA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46EFD-E988-4853-9E18-A5AC616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AA561-68F6-4B54-90EB-7458BF91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86C-53E2-4AD3-A199-0562DDD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18F3D-19D9-4124-BFD5-62A4977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DA88D-6915-4A21-9C7E-3EE8E85F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75507-A080-4F14-A356-1D55C77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C9CED-CC2D-4EA8-805E-4FC610AB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ECD45-451E-4EBD-B1F9-C596A235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7E157-9FB2-450F-936A-41B52979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03E9C-A3C3-4C90-A442-6D8FC5C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75BB9-5F7F-4DEA-8C1B-5ED4C5F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D34CC-E810-4CCF-AC75-AA11F2C8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1562B-32C6-41A2-B4DC-74E34F68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BCB-8A3F-491D-83DB-15E6249C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60C91-BB41-43A5-9FA1-9E6990FA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4B83D-EAB4-4001-B367-DDEC456B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55319-133A-4D8D-B695-23E5CE5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C4E01-0C59-4E65-A536-04D0C3A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93B26-5ED8-4788-9073-27DDF4CC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BB2A6-3867-43A6-8327-32B285CD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54F3D-181F-4FE7-AA50-A32005F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1795D-61DE-471A-A97A-F7E00B2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C2C69-4BD8-4F45-95A1-0AF9A44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CA683-CD69-4D59-BA3C-DDFF564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E20-05CE-4995-ABB4-1A9832F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10AA7-89A4-4C72-B19E-8BE8849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01A86-2E4C-4C96-8309-8DA4A136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B1A9C-DF6A-44FE-9DE8-D46D12CF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EE790-45BC-4A9B-A2FC-63365F1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8CBC9-A6D8-4922-A40F-A25CADC2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0420E-FD00-4FA0-872A-B25F1D0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5A23D-A255-4BA9-80F1-41710EC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4D695-1FED-4787-947D-2DEC6AA0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49312-FDA9-4A3E-A107-979F479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2DCB9-4593-4FC5-B6A7-BCC19AF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BF0-D065-4A32-B420-C0F753FA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48E42-E88C-47E1-8E60-A15B602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7012A-7EDA-4436-930B-D6037B1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16B0E-873C-47F5-93A9-4D0C780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CC7E2-C025-45BF-BCEA-5A7276EC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D8740-3AD1-4965-861A-65C28DF5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C94B05-B6FD-48DC-9AF5-017FC6C56CB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34FCBB-7C55-4B77-BA5B-9C55741B9D5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5E4E3F-5964-42F4-A72E-63145ED0CCF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25A58C-B982-4539-B472-BACD3B06BCA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3D7945-2AD1-41E1-83B8-88EE52E8C8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C30-8090-4EBF-B430-945D928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CEDF78-D01C-4A38-BD11-73220CAE5EE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EEEFCD-6F19-47FC-B2D8-9E1DCFDBF56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8145EF-442E-4052-891B-234FC4674A1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4E794A-9D67-43FB-B1B9-D0B4FFA9B47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714490-DE7B-40F5-A3DD-37B478B2AB4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5D25F8-19FE-4E21-899F-0F0C6C0D8E3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9843C1-9DC7-446F-A691-E79B3EEEA4D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8CB189-5131-4EA0-8912-AF50AD4C3E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332453-A71F-410B-886D-7A452BB50D4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040C42-5089-4022-9C37-6D66C7D83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268-1C39-462F-A2E0-3E555201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CA0D8F-7FD9-4B24-8858-F83FDB43EDC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1D6C92-2084-46AB-92CE-49FCDFB161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32CBA5-493B-4D1F-A054-103A2C45672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B10DDA-595B-4B78-B9FC-D741515C4B0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A65BB5-1373-44CC-96CD-DB6F9778035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8AC025-1588-4CE7-AC13-45DC22BBC0D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F8154C-2008-4147-843C-DA025A1B4A4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B2541E-143D-438E-8E9F-BA057578CE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602657-F293-40FC-9D0A-D2914860131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ED77C5-982D-410F-A5AD-63DD93A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E9E-869D-4423-8FD9-70FAA6E1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3E1603-FA13-40BF-B753-15C2AF51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8819A2-D8EA-447A-84BD-73E7C12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D2E550-A3D5-47B4-AE13-C577177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57159B-9D5A-400E-8433-F5EAD6F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04D239-B106-4882-B1ED-4B64CF9F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F2DCF2-0987-4986-A818-42A8FBD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96612D-9012-4890-9F1E-B3A7D8D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A73E5C-86DD-4180-87CF-E0C281E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122F64-82C8-45F2-B937-2C4E40FE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DDFB3D-E4D4-4FDB-92AA-9FD7135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76C-BC5C-4FE4-BAF3-FDB1318B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24DE08-DE99-4CF9-959F-6F0067D1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4D8638-15C8-46A6-AD0F-ADECEDD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E7C4E9-8077-4E6B-A17C-878AC936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2D1391-FEE7-43EC-8886-AA0144D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5124DA-5E99-4951-AF29-2791813B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2A3D58-CE87-4CED-B954-D8D0D37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9E62EE-567C-4C27-B9E2-53CCEB64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387AC6-D315-4F54-A99E-C9F37DA7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E2A622-2257-4A15-BD13-73481A22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255781-8784-49DC-B484-DADE770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6131-7668-49AD-AB0C-00F26F3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04CCF2-F66F-4ABA-9D36-BC26FF2B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C24182-3F9D-4D39-99A9-1AFEC635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9FB832-0504-4801-9D98-2AE86B43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BFFF74-2E54-43A9-9706-A1CE003F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AA7F1B-F0BD-4ADF-B3BC-A24289B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1FF494-192A-4D5A-99CA-991EFF36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2CA75A-492A-49B1-9599-9391BF6B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5BCA35-8091-4A86-ACB6-B542EF4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3B3E00-D05D-42F3-87D3-D8E00450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957392-75FE-44DC-97F1-4624D5E3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E501-A1B5-4598-9504-6834428B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C476B4-72B7-43EC-BAE2-5933DE3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2D99D0-1E30-4B55-9D5D-64E3EEC6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37365D-4493-4B91-99B5-1687C28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EB74E1-22FB-4512-B473-990ECA8A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221A38-F69E-4AEF-BAC9-37DDBBCE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E105BF-6D5C-42F1-AA6B-5D5A5C0D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C7E7D8-A42D-44BF-9C8B-2967F3E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C7AF0C-8BCD-408A-A0AC-CFCDAA9A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C34488-7C98-4238-BC58-B54BBE3A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9D0DC3-D563-4DD4-8648-CF626F8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77C8-536E-4B37-ADC0-99D42BC5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EC9C2B-FC13-40FB-AB00-CD37675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9FA4A4-E54D-48C2-8049-7CF21F8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1C298D-715F-4D09-B504-AA70D40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F0B9442-16AD-4978-9403-DF64DCC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84E863-42DA-4E69-B814-0D4972EA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86C943-F268-4DB0-B238-5ADE2F83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74E420-4001-4AA6-A3E9-F014BDDD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112AAA-4F74-4B57-BE4C-9E6B9607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E69EDC-0040-4092-8C7C-B80A08F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7F437E-E4BA-43DC-9F46-2791DC13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F0DF-71EB-43AC-B3DE-DFF0D67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117EEA-5E08-4E2E-BB85-2BE0A8B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DD4EE3-AC62-4683-A3C1-BBE9568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A5E2B2-386B-42B2-A295-CC31390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859784-49F0-4414-B88A-714A273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FABCE0-B464-4B8A-BC3C-4E37BCB1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911C33-E9BC-4FDD-AE7C-E002829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F4E304D-48EE-4B82-87ED-19105B7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90E263-DBEE-4779-AA93-5B0681E1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FA0E63-3559-47FB-81C8-2665AF1C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05F494-D906-44FB-ABA1-0110E46D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D76-3959-4BD2-9D1C-73690815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918C827-9423-4996-B20B-08485A68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F5E951-90B4-4A8A-A1BE-3FA06A5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137B45-9406-4346-AA2E-A42A4926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F96690-1093-45EA-9CC0-A5C7A4C2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6B3274-DA42-4FE8-B06A-C034AAE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E61420-2F12-40D0-BBD2-43E0E9F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B0D304-906E-4B2A-A673-A137A4A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AFE93D-46AD-4401-93A8-79B6F8E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5C0A73-161D-426C-A2D4-FA11BD0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40D7BD-43CE-494F-A12B-383F07EA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7ED1-9246-4F5D-BD25-5D86670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54CE63-B48F-4483-830C-B278C01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01DB6A4-975F-4A68-B175-7379ACAC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218FFD-1D08-4A1E-BCA8-D554B22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FB94BA-8C24-4204-9AB3-E8B62D70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CFCF508-4B0B-4E5B-B668-A1525E6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1A27CE-6155-4074-9498-4D461ED4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18757F-3718-4084-99BF-A2C4DB8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F4A34B-1868-4641-9C64-0CBABEA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E9C7AA-E82F-4E6E-A1E1-2F72443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2FD030-3735-47E6-B5C1-DD4C656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C979-88DC-4CB9-9F05-E6BB328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3835EB-44B2-4CAB-909D-93F2B3F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609B8E-FA90-4CBC-8676-67A1B0A4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6C8CF9-8CEE-4594-A32C-DA420FC5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3F3A8A-059A-47B9-816E-65C12D84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CA58A1-1374-4E5B-BE99-3DAB565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4FCC401-2EF5-44ED-BDA7-B2B0670C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0B3B10-C4DB-4E37-A3EB-E8EB26F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3849A2-5933-4814-AE9D-0CF704C2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E8BD87-1316-4345-9370-8BC7737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D0C7F3-B18C-49E3-8294-553F9D1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83A-71BB-4A91-BFC3-9C850C3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6B229A-6D86-4C1E-A79F-5C333CB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F800A3-DFA4-4640-A631-1C78B0A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CE99F3-21D6-4F23-B086-3D7EDE3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A793AF-4F6B-4BA1-8A4B-FABD459A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B5E5B1-868B-4010-8DE5-F873664D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92CE63-9898-4949-8F66-572C562B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B8C534-1147-42BA-BAC6-1B2437C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BD6005-1E19-4C92-AA35-D89432F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009CAA-3964-4117-A810-BFE74BCD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7400BBE-D56C-4628-8F03-0AAA2A77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462-61E7-492B-A39B-79FCFBC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9964A7-36DD-45ED-9335-AA929D1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AC09E92-2D90-494E-91C8-EBEEDDD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E376760-5EB7-4FDE-B59F-CD82FB4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4D90228-4472-4272-BAA6-5DF3140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0ABC9D-17A5-4A51-B3B3-24C0853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4B810E-D4E0-475A-B59D-90319B50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9116DB-199C-4422-9128-B6FA415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A8B5D3-C8C3-4572-99AD-D17A5DB8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A1815C9-3BE2-4DE9-A541-D556526E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6335D8C-EF4D-4CC0-B90A-4A25B0C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4109-704C-4FB9-B0BC-E91A112F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6007BA-2E22-4E70-AF5E-F8CB407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532277-FC19-4D7F-AACA-4A82E3C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F40197E-480B-44F3-90E4-8C59AD36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F5F93DB-673E-42EE-A800-54F8D48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A6FC2BA-CA93-40C9-B3FF-215AB0D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4FD5CC-93E5-4896-95DA-E60FAF6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F733BB-CF34-4AC4-ADA4-8ED62B5F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23A99A-56AD-4D63-A65B-CF96FD05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4ACBC1-3C1B-4CA8-BCC9-DCAF6AE6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2F326C-B621-4967-8D5A-86CFD1F7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AC5A-85D7-47E3-86C1-E436AC43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A0C0DF7-4FD2-4A6A-802C-0B16418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E3ACD4F-6B5B-4CDF-9DCA-680DE39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2D16E2-A3ED-474E-AE07-CB49CEB3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AAC0F2-1247-4F4B-B696-AF4D65D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CFA488E-4F4F-442C-A67F-3C8A8F1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327D73-4739-4342-9FED-B8D2C06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762677-7A6E-46EF-AEDF-DAA19F4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8E8C944-C15C-4DDC-AB53-CCB838F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0E7990-DF4E-42A2-9158-7F5728C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3C18C47-340A-4284-A641-B6C8FA8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BA5B-C76E-4A6B-8926-F732C7E2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4C6D633-68DF-4ADC-9AF0-4B26ED11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A71EB5-A6EE-4C13-A901-F6941B69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970412-FDDB-442B-ABB1-1539290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5D67258-2B37-48E2-BB21-EA8307E9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9B1DA06-A4A3-4AEF-A37F-251CAD98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92556C-B393-4DEE-9B19-EE0F883D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5E8B2D-72C8-43D9-B851-53E3C58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0605C5-E147-4BBB-B6C9-827E961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2020F0C-D4DA-4D84-BBDA-FD4E58F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18E03E3-1019-4DE1-AE70-13041CA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75EC-54BC-4BFC-819F-7A3FD639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B422EA-3313-4EFE-8412-115E3A7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3DEFC21-576F-49E0-ADCC-E6BEFD41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3EB328-CEEE-420D-81AB-99A19EFA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1A759-9A94-4DB9-BFA2-6FC9CD1686C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56E048-B8A9-4695-990B-954A09C4D71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6DB450-1E3A-4EC6-84F9-E978B03CD92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D01A37-526F-46FB-830C-C0DDCF3CE55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5B8293-E262-4761-BD57-31C0096E87A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37E7B5-CF90-442A-A930-CE48077CC69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9AB3FA-807D-41D1-932B-DA9251F13A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37B4-3FB1-4650-912C-C36995B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32547B-D17C-4A69-A2C6-34CB24CBB45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9A193B-09A0-4709-A09E-20D2E4F21D8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772AB9-5D33-44A4-93CC-06A7BC83F67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13B04F-A7AA-4EF3-9D40-36DB193C287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6BA87-978E-40F0-828B-C3FAA0EC803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291431E-473A-4BEC-A698-EBC9EA79CEA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DE38542-84C7-4537-9CBB-BB818D033B8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090D6C-5B3D-4BEB-94CF-5B996DCE05E1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CC03911-1EFC-4190-8EF7-F8509073432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AAA76B5-D8A8-49AF-889A-FF3453619B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9BF0-B65B-4562-A007-7C857B5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8D75E64-25A7-4732-856B-6A30B18E5E8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293AD4-F390-42D1-A374-AD49B899D1F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6E7F47-9471-4DC5-ADBE-171796B50F3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E2B9797-FD78-4882-866E-4E157ECB4843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C6B3CF8-571C-40DE-A25E-40E59BB992A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B7D6749-2655-4AA1-8EFA-292925F3590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FE1C951-8E32-436E-997B-3A33BA0ABB3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5B12B11-AC63-4FCE-8EBC-C2A6EF44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3E71B2C-111A-493D-B968-6AB37C51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42EF9B4-C3C7-4F81-95EA-4BFEDE9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0255-E895-4E47-B7D5-4268EE5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7015EA-75EC-45E2-B94D-AE7BEA36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F129AE7-CEF0-470E-BA5D-4BDA0F14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BD0FA93-A731-41AE-9A5F-B9DC215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1DDC0D-D369-48F5-8498-6BF226D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23F807B-34BB-465E-856C-AADBBAA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F31C93F-7232-4EE0-A057-1255087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082CD1D-BF38-4169-83C7-6734F625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22163E8-A995-4118-8CB0-FE1ECB68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885282A-5350-4E11-A098-775A1697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A2904E0-F2C0-4E4B-825F-B12FA856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1768-2F99-4364-9B9C-E27D799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7164E9B-1612-4351-ADFB-185E9B7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D68173C-9FCB-4FFA-94E9-995664D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9D3A92A-6D11-405B-9743-F511ADB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4A2A0F2-E7DC-4424-AA2B-DE160DA1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8D0FBF7-E372-4C05-8372-B504821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414EB8A-2C38-4684-9699-BD78D0F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6F2C635-8770-49D0-BAD0-C2DA5F7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CF713F2-378E-4520-BDEB-F0CA7E1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908E41A-E1C4-4CDB-B28D-C484770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592F74-E154-4BAE-A364-6E2A8BDB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9840-7CCE-4027-A0A2-C3F295FF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7FBEDE0-8DB2-4D3B-8BF1-8FD5D202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937CE00-02FC-4473-8271-3D8BF384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A0BF0FC-03D8-4CF2-A4DF-1E5A85CB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471F751-A83B-4E0B-802E-0C7BF3CF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B58C2E-7006-4B1A-8678-F329531D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7DC3420-0FF0-478D-84F3-4ED9EAE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A381331-4B89-46A7-80E9-B6C9778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E6548A-3BCE-441C-92A2-F8D67ED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AC99161-7305-4B11-88E6-9389DA21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DA90BB7-3BB1-4886-87AD-08FEFF6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22D8-8F92-4433-82BE-E3D15D2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D6DE399-D482-4BB3-AFB7-CF65C50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B99A30-2A8C-414D-9A4A-BB89D490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209A693-1E1A-4907-BCD9-B5595701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6C02599-1AC5-46C6-BB19-12182122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95FA77-4DD4-4C0E-BABC-199688E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B131B41-36DC-40A9-9446-64FB165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FF8246F-EFFD-4707-BBFE-ADC9141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10A4424-2653-45C6-A416-85FAD3E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A61A6D-E117-46CB-B1CB-741BCA1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C99052F-9D4B-4A62-8E01-10F95D9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4EDA-01D7-46D7-A753-F2B0B11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A0B8F4B-5745-4092-99E9-7B9C410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1ED8E17-39F4-4993-B8BD-D6122AB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6B83071-8A01-4A15-BD09-DE76695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B22BE8E-E1F5-4CEF-8F69-69A63B2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A172F9A-4872-4119-B99B-74945583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960E22F-E4F5-40A3-AD69-AF405784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E9B8509-8D43-4F7F-99FC-6E84404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073C660-5397-43FA-9F88-41EDEEE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E22B07-4775-430E-992D-F96F7E8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A192BAA-644E-41BC-933B-D15E803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ADF3-53AA-4F5A-AA3C-35852C2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7AF1C88-ABF7-44BF-ABC1-9457E0D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72CA4C9-6F40-4433-BF18-007CF8A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8049AE4-11CA-4A93-968E-7B283EB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45BC90C-2BA3-4710-8CAE-75882DE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6E81762-AD14-4EC5-A31B-E9C4AC4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23C530-E237-4165-B7E4-14C63BEE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1447AF4-7F72-412E-B305-DE86C05A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6022F1D-8B58-4802-9F55-8D220B25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5F22ABC-08AD-48F3-8880-AEDD3331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BB6222D-62C4-42F5-9280-F24EE2DC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E92D-9509-4C5A-A769-7B81BFD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7E0A05-7B42-4612-BA5F-E6E522D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A1B3B8-12BA-43FE-A204-235E02B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4CF67D1-E3C1-4AE3-AC55-1A4B9F4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63FD91C-BA64-420E-8499-92857AB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0469FC3-6C40-4DE4-A9A8-69D39DB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7AAC814-630E-40FD-AB96-60097D1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8931ED-3F75-4312-9079-5436D0D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3B3956-1172-46D1-BAE3-EE701178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F90BCD2-6641-4709-85ED-B158C410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E53D8F3-9758-4B02-B6BE-7102CA4D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5595-4029-4693-BEB6-3C34364C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E80316D-3737-483C-B602-CED2F86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865E380-D88F-4D4A-BB7D-90BFEAE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C2D30A3-7C23-4422-9E96-387BDC9D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9EDDD6D-5D5A-4EA9-869B-B25D3A25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8B1F92-AF3C-4059-8088-9638A48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C52DAC5-9AD8-4507-A3A3-DAE8F1AD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F126D25-0079-437A-88C5-C4FD8C1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FE2A40F-F54D-4444-945E-46D2883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E2BF45D-DE4E-42BD-9435-65332A6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80F22B6-616A-4EDB-AF61-2BBA963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E3D5-A20A-4BC9-AAC8-62CC124F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8053FFD-73B7-4B47-9D06-36D6A457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8670A5E-0732-4D6E-88BF-F20D8B3A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30B6E62-250B-4869-B213-A66EF86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EDA93A5-4C54-4026-84E8-350845D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B3B6814-B4E8-4668-A802-C929C5B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5FEF407-2C7A-40AB-BD2C-0ACF505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B3905C-3A46-4F14-8974-0179B5BC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D652073-C275-48A1-84F5-D1033D9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33B59BC-0234-4E0C-A91B-7704B80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EB6A697-FEAD-4058-B0A1-32D82F2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EA5B-E594-4ACF-B52A-82E560A5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F28D90F-E0D6-4002-BC6F-3DBC88C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216EAF3-C470-4A67-BE8D-CE09123A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3EB88F4-4C3A-46EE-8087-E9F5F204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DCCB8D8-87BD-4A1F-8181-56D2ECBE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0197E56-B8D1-4B0E-940D-62204D4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C36F984-CDC4-4F32-B947-78E6A004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D1836C3-B827-4C7E-975D-66E9470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4BCA56-EBAF-4137-89B0-C8A0F2CF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4D799B0-D808-4207-B68A-F549278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90839DB-C6CA-4534-AB1C-90D3D97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D3DE-6716-4974-BF99-7B54959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3E347B5-FB01-4195-BED3-E8DE01E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0C46D24-F7D6-4C44-A066-481C743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8B7F8FE-286D-47FA-8711-74B40B2E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34B8969-D101-4F85-9164-B287BD4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ABB81F5-7786-4044-A05B-8B967F71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89A865D-4922-44BB-9E44-BBB5DDF1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A55FDED-BC29-4620-9BEB-FFBEAF68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63C06D4-F7FC-4AD2-A63A-45A2DCDD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2E15CFF-F459-4C0B-AA4D-AFA92DEE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4D284CA-FF5E-4804-8137-DBD21FB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B53D-90CA-44FE-B5E1-93F64BAB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FF3019A-73F2-4521-90DB-1351090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8A97E0A-80AF-4C36-999C-6CBA3D8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BFE8E27-082F-447D-BF1B-A3F4023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ED68078-B352-42F1-B79D-C770C91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2DB9251-6E13-4EDE-8C15-51CC878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9C0E410-4E1A-4A58-94AE-1E829691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3E6DD23-7352-4499-BDA3-D35972C9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364A367-8C4D-4B90-8022-81C83F5D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A9D4336-EFB6-406F-897E-5D62086F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AEB3285-5D5B-4FB4-8EDC-BF9ACCD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F1DE-71BC-403D-BFB9-BC1C0597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4A89B26-D3B4-4B19-A9AB-AC39DEA0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2B49B38-5E10-481F-B1B9-B908DAC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D043A55-0A26-4C96-8B8E-C86F97A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460AFF1-61E4-493F-8B7C-9ADD4A8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09A2DCD-79CE-4CC8-A339-3745754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DA5B606-871C-48D6-B5F8-5CA78EE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538A439-C1FC-4B2C-BE50-EDB838CF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3199D23-B766-4E8C-AB16-621F42A0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492880B-8306-4497-B27A-66AC680F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1854550-BEE7-40AA-AB95-633284C6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C915-0ED5-49AC-AA80-BEA1B36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93D9CE6-77EF-4DC6-BCA2-264D9CF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11DFD73-32D1-4670-982B-95305729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DEABF62-9BC1-4F51-86C2-C026A66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E2C995-79D2-48A1-BAC3-D89E4C79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A0B0910-8723-4457-B1B4-23998CFA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BA606CF-3739-4A04-B4F2-0F62070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A5E17CF-4105-4D32-9F4F-CC473D42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0C60165-8DE2-4A99-A18C-9C4731B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90B2E35-9987-4697-822B-25FE7279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8B45916-356A-4409-8349-C856AEED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233A-EE0D-49F8-B682-33B849C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ABD6315-39CD-4ACB-99F9-EA83848B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A365053-38B4-490E-B52C-5A8CE4C12C5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FE4A714-8921-4BF2-BF41-7E883F0B3E6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671A25-0DB2-40EF-8719-71583D705CF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9FB1DC0-94AD-4CC7-B8B2-5745E0D2631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D23A562-644E-4AF0-8749-4D03BB41A9B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B5DC06F-7B6A-44AF-8A52-03DE10EF33E9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9E73E68-6D5D-44BB-88C1-CFB4E42F226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F99A61-634F-4E16-A5A5-2C766D98134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7561FBA-7813-4AAA-A46D-8542A77BCA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315A-03B0-4E2D-BCDB-385DB01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16D2DCD-D8C7-40CC-B7AA-30A3E2B5757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369FCF7-4491-456A-B11A-1BB66880D00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DFDE979-A732-4818-8391-A18760D0FE8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82B6FC-14C4-4EF2-82C2-5F5E8B3C6A6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B519D8-E84A-4F43-A886-21C031DE006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8A6A38-178A-4E0F-A671-2367DCDBE52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A1EFA8-EC4F-4E6C-9A22-01C56C48312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A26D8E-492D-4702-8079-2F3A97D5AF6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43B3E6-8B05-4344-8F15-D863CEA8FE3A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9D71BD-7261-4BAD-B6B3-37FB54EB8C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181E-BA3E-4C26-BC4A-40C20D0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18491C-782E-43D6-BDFC-D1B84B419EE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547CD9-9A78-42A7-A58A-3A22CC654E8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B479AC-4D25-4B47-8E35-B89D6F0C889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C7F89E-99E4-4399-BBB9-D5BA1E4F638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EAE11F-095A-4856-A96B-713CF8B16D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8700-C0C9-4279-BC8B-A349214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C62F-D560-4528-853F-05F25FA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D778-2847-4B10-8A28-D8C9579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21B0-E7F1-4316-81E3-BBD96A65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1B21-8898-4414-B893-E0D29FC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0A95-1447-4AFD-8A00-677270F1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9028-8E8D-40F8-A067-17486A5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B053-B094-4133-B8FD-7C1F7C78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0AE8-F59B-4906-91C0-54CF700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968D-53C9-4317-B5E1-078D36E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6BDB-E141-4EBA-9FE2-74A1D02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CC7A-3DD3-4DA3-907C-9FC45A1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C852-1936-4393-B050-4A24DE6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2239-A020-4082-95CB-1731128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0DCB-88E2-423B-9F84-D7FB156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4643-00E7-44D4-B270-D11E07F8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2F39-7DA0-4164-91A3-A685E447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D395B-F00D-4905-B4F1-67EEC23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ABF9-DABB-498F-856B-08823FA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03C6-18F2-4B72-B578-90C695EA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0ED5-9BB5-4852-B303-05A8D90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7A33-EA67-4625-B644-A998AD7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FA5D-E1C2-4683-922C-8C93B10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5068E-2B9E-45C4-ABF0-6F1441B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12DE-2D5B-40A4-A96D-0C0A2F0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7D74-4969-433F-A3A6-DB1FB9C0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C237-FF96-4A70-9D1B-A72A3FD8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EA0F-7ACA-462C-A67D-2081FA9F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3079-306F-4562-AC12-A2BFB23D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7979-6D13-4486-BEFE-6118BAE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0F5E-3687-403D-9AB9-28A0D08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9074-CD75-46CF-BF50-F4217005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ECAF-52B9-4004-8B39-7B3DD108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2583-15A3-4C91-B60F-D182A1F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BAF4-5A39-4066-A2CB-9142A9D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181B-C02A-4083-9422-3FCBC96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A0BE2-8583-4CF3-B375-A46A0A2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C58E-1A63-49DF-9DC6-B4F8F5E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0DCA-B82E-4513-9196-782E7FD6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F66A-E6B3-4669-BABD-91F6586E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3A468-BB78-4C60-A868-FE2A001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0981-E178-4570-BD80-27084E96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13194-7547-40B0-9993-AC9B591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073A-BF1C-4040-B30D-2F4A603C4E3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ABF4-B711-4527-A2EF-399D4929C9F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209F-F67C-497C-A9FD-9FC0CDE1B84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D57-4557-4547-BADB-CEF4F793A38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916-8C4D-4432-BB35-BF9E9743A06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8A5-3B14-4BD9-A14D-4DE50E5BC1C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5B24-1932-4C73-9641-2BA125500E8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763-2BE1-4052-BC8D-790267A0834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09B-1F89-47D4-8F5E-13C4BF65194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735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289-23A0-418C-B1E1-6D8FB15C1AC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D42-113A-41E9-9D2A-8711AC30330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1B4D-320F-4A05-8324-8E48FFB90A8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AF5D-F022-4FAA-AA03-15F7F6BA9D5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E8D-1475-447D-A3F2-AE295AF6B1F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6F6-DD18-49B8-A844-DCF738C0A1A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EB7E-6277-4D45-94A8-57E4A3854F8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FA5-64CE-4F3F-9C6B-DA14B478764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CF4B-82CC-4B3D-8EA3-93A888254AF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DC8C-5320-4318-8288-EA04F983771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C98-86E1-43AE-8420-B14E5DD3779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6D8C-F34B-4AE4-AC70-5F509D08690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F22D-1FBE-4E51-98C1-86959C07287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EFD-C6A5-4EF4-A5C0-5363BB373FE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6F74-1F8C-4D56-AFA8-D161C91C31C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7E3-10BC-44A5-807E-D6F504EE1E1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309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Num" idx="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56C-9139-4A74-AA20-4A03C0C6B53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3B6-10FE-4B06-9B15-0E4C7137073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D81F-35D8-48CA-A02B-9C7D9971862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289-6134-4B6D-9276-7C920A04E89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CCC-E77B-4FC8-95DA-283AF1F0A0B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8A1-AAB9-432C-9180-5E2950D2017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C52-5C36-4CF8-81C9-6B6F372EA49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D3E-1600-4C3C-BD24-A103940412B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70C3-BE71-4B7B-AF8E-6B2203A9B19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C42F-41D5-4EB2-A10B-ACDBAA39D19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1B51-1248-4888-A812-25DCD4E9E65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088A-52E0-40D1-B7B5-0C3526835A0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E8B0-9792-4B85-88C7-4EA8023CAD3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C55-A440-491A-8E70-1001A974508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FB5-119D-4DE6-9B3A-6E75F42E497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883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A86-1A38-4436-91BE-EB7CA25BAFD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AA6-D812-4CE4-92FB-387B5CB49C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2E2-40FB-49C7-BF74-B8F4134FA73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364-BC86-4DEA-AE99-D0B64E60AFA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D58-49E6-4BA3-89FE-DEEC9CD2206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C43-3C7F-49C5-B6C7-5163C0F282B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hyperlink" Target="http://www.ege.edu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4da"/>
                </a:solidFill>
                <a:latin typeface="Arial"/>
              </a:rPr>
              <a:t>Федеральный закон от 29.12.2012 № 273-ФЗ «Об образовании в Российской Федерации</a:t>
            </a:r>
            <a:r>
              <a:rPr b="0" lang="ru-RU" sz="3200" spc="-1" strike="noStrike">
                <a:solidFill>
                  <a:srgbClr val="3204da"/>
                </a:solidFill>
                <a:latin typeface="Cassandra"/>
              </a:rPr>
              <a:t>»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87280" y="1665000"/>
            <a:ext cx="8532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Государственная итоговая аттестация является обязательной и проводится в форме и порядке, определяемых Федеральным органом исполнительной власт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Правила и процедура проведения ЕГЭ,ОГЭ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23640" y="1484280"/>
            <a:ext cx="8530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ГЭ и ОГЭ проводится в специальных пунктах проведения экзамена (ППЭ)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51" name="Прямоугольник 3"/>
          <p:cNvSpPr/>
          <p:nvPr/>
        </p:nvSpPr>
        <p:spPr>
          <a:xfrm>
            <a:off x="324000" y="4365720"/>
            <a:ext cx="8640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и ОГЭ начинается в 10:00 по местному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начала и окончания экзамена фиксируетс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2" name="Прямоугольник 21"/>
          <p:cNvGrpSpPr/>
          <p:nvPr/>
        </p:nvGrpSpPr>
        <p:grpSpPr>
          <a:xfrm>
            <a:off x="-6480" y="6431040"/>
            <a:ext cx="9163080" cy="439560"/>
            <a:chOff x="-6480" y="6431040"/>
            <a:chExt cx="9163080" cy="439560"/>
          </a:xfrm>
        </p:grpSpPr>
        <p:pic>
          <p:nvPicPr>
            <p:cNvPr id="1953" name="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-6480" y="6431040"/>
              <a:ext cx="9163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4" name=""/>
            <p:cNvSpPr/>
            <p:nvPr/>
          </p:nvSpPr>
          <p:spPr>
            <a:xfrm>
              <a:off x="0" y="6435720"/>
              <a:ext cx="9144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Прямоугольник 22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56" name="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ришли на экзамен. Что необходимо иметь при себе и можно взять с собой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9" name="Прямоугольник 6"/>
          <p:cNvSpPr/>
          <p:nvPr/>
        </p:nvSpPr>
        <p:spPr>
          <a:xfrm>
            <a:off x="324000" y="836640"/>
            <a:ext cx="3240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(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Прямоугольник 10"/>
          <p:cNvSpPr/>
          <p:nvPr/>
        </p:nvSpPr>
        <p:spPr>
          <a:xfrm>
            <a:off x="5742360" y="971640"/>
            <a:ext cx="2620080" cy="642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обхо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арство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Picture 10" descr="D:\!МолодыеТихоновы-Е.В\!Работа-сделать\РЦОИ\1088102-3d-Teeny-White-Person-Carrying-A-Ruler.jpg"/>
          <p:cNvPicPr/>
          <p:nvPr/>
        </p:nvPicPr>
        <p:blipFill>
          <a:blip r:embed="rId3"/>
          <a:srcRect l="0" t="0" r="0" b="12916"/>
          <a:stretch/>
        </p:blipFill>
        <p:spPr>
          <a:xfrm>
            <a:off x="1692360" y="3578400"/>
            <a:ext cx="1439640" cy="111096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1" descr="D:\!МолодыеТихоновы-Е.В\!Работа-сделать\РЦОИ\1087621-3d-Teeny-White-Person-Writing-With-A-Pen.jpg"/>
          <p:cNvPicPr/>
          <p:nvPr/>
        </p:nvPicPr>
        <p:blipFill>
          <a:blip r:embed="rId4"/>
          <a:srcRect l="0" t="0" r="14258" b="0"/>
          <a:stretch/>
        </p:blipFill>
        <p:spPr>
          <a:xfrm>
            <a:off x="4103640" y="674640"/>
            <a:ext cx="1013040" cy="13334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2" descr="D:\!МолодыеТихоновы-Е.В\!Работа-сделать\РЦОИ\1088070-3d-Teeny-White-Person-Holding-A-Calculator-In-Front-Of-His-Face.jpg"/>
          <p:cNvPicPr/>
          <p:nvPr/>
        </p:nvPicPr>
        <p:blipFill>
          <a:blip r:embed="rId5"/>
          <a:srcRect l="0" t="0" r="16688" b="0"/>
          <a:stretch/>
        </p:blipFill>
        <p:spPr>
          <a:xfrm>
            <a:off x="6064200" y="3284640"/>
            <a:ext cx="1063800" cy="1439640"/>
          </a:xfrm>
          <a:prstGeom prst="rect">
            <a:avLst/>
          </a:prstGeom>
          <a:ln w="0">
            <a:noFill/>
          </a:ln>
        </p:spPr>
      </p:pic>
      <p:sp>
        <p:nvSpPr>
          <p:cNvPr id="1964" name="Прямоугольник 27"/>
          <p:cNvSpPr/>
          <p:nvPr/>
        </p:nvSpPr>
        <p:spPr>
          <a:xfrm>
            <a:off x="3348000" y="200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лев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Прямоугольник 29"/>
          <p:cNvSpPr/>
          <p:nvPr/>
        </p:nvSpPr>
        <p:spPr>
          <a:xfrm>
            <a:off x="1476360" y="27478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которые можно использовать на ЕГЭ по отд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Прямоугольник 15"/>
          <p:cNvSpPr/>
          <p:nvPr/>
        </p:nvSpPr>
        <p:spPr>
          <a:xfrm>
            <a:off x="1258920" y="5975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, транспортир,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Прямоугольник 16"/>
          <p:cNvSpPr/>
          <p:nvPr/>
        </p:nvSpPr>
        <p:spPr>
          <a:xfrm>
            <a:off x="1258920" y="4788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Прямоугольник 17"/>
          <p:cNvSpPr/>
          <p:nvPr/>
        </p:nvSpPr>
        <p:spPr>
          <a:xfrm>
            <a:off x="1258920" y="5183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 и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18"/>
          <p:cNvSpPr/>
          <p:nvPr/>
        </p:nvSpPr>
        <p:spPr>
          <a:xfrm>
            <a:off x="1258920" y="558000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4" descr="X:\11_Тихонов\2012\презент2012\221974-3d-Teeny-Person-With-A-Check-Mark-2.jpg"/>
          <p:cNvPicPr/>
          <p:nvPr/>
        </p:nvPicPr>
        <p:blipFill>
          <a:blip r:embed="rId6"/>
          <a:srcRect l="0" t="0" r="0" b="22349"/>
          <a:stretch/>
        </p:blipFill>
        <p:spPr>
          <a:xfrm>
            <a:off x="539640" y="487368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" descr="X:\11_Тихонов\2012\презент2012\221974-3d-Teeny-Person-With-A-Check-Mark-2.jpg"/>
          <p:cNvPicPr/>
          <p:nvPr/>
        </p:nvPicPr>
        <p:blipFill>
          <a:blip r:embed="rId7"/>
          <a:srcRect l="0" t="0" r="0" b="22349"/>
          <a:stretch/>
        </p:blipFill>
        <p:spPr>
          <a:xfrm>
            <a:off x="539640" y="527364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49"/>
          <a:stretch/>
        </p:blipFill>
        <p:spPr>
          <a:xfrm>
            <a:off x="539640" y="566100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4" descr="X:\11_Тихонов\2012\презент2012\221974-3d-Teeny-Person-With-A-Check-Mark-2.jpg"/>
          <p:cNvPicPr/>
          <p:nvPr/>
        </p:nvPicPr>
        <p:blipFill>
          <a:blip r:embed="rId9"/>
          <a:srcRect l="0" t="0" r="0" b="22349"/>
          <a:stretch/>
        </p:blipFill>
        <p:spPr>
          <a:xfrm>
            <a:off x="539640" y="6058080"/>
            <a:ext cx="360360" cy="24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0.23657 L 1.66667E-006 0.02014 E">
                                      <p:cBhvr>
                                        <p:cTn id="11" dur="1000" fill="hold"/>
                                        <p:tgtEl>
                                          <p:spTgt spid="1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25671 L -0.01927 0.01666 E">
                                      <p:cBhvr>
                                        <p:cTn id="19" dur="1000" fill="hold"/>
                                        <p:tgtEl>
                                          <p:spTgt spid="1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9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атематика – линейк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, химия –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, география – линейка,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197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1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83" name="TextBox 6"/>
          <p:cNvSpPr/>
          <p:nvPr/>
        </p:nvSpPr>
        <p:spPr>
          <a:xfrm>
            <a:off x="395280" y="692280"/>
            <a:ext cx="806436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Box 10"/>
          <p:cNvSpPr/>
          <p:nvPr/>
        </p:nvSpPr>
        <p:spPr>
          <a:xfrm>
            <a:off x="298440" y="3716280"/>
            <a:ext cx="84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ься иными предметами или средствами, не допущенными Рособрнадзором к использованию в ППЭ во время экзамена, не только в аудитории, но и во всем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6"/>
          <p:cNvSpPr/>
          <p:nvPr/>
        </p:nvSpPr>
        <p:spPr>
          <a:xfrm>
            <a:off x="298440" y="10764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ариваться, меняться местами, любыми материалами и предм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Группа 1"/>
          <p:cNvGrpSpPr/>
          <p:nvPr/>
        </p:nvGrpSpPr>
        <p:grpSpPr>
          <a:xfrm>
            <a:off x="3780000" y="1989000"/>
            <a:ext cx="1052280" cy="1379520"/>
            <a:chOff x="3780000" y="1989000"/>
            <a:chExt cx="1052280" cy="1379520"/>
          </a:xfrm>
        </p:grpSpPr>
        <p:pic>
          <p:nvPicPr>
            <p:cNvPr id="1987" name="Picture 12" descr="D:\!МолодыеТихоновы-Е.В\!Работа-сделать\РЦОИ\1088118-Clipart-3d-Teeny-White-Person-Talking-On-Two-Phones-Royalty-Free-CGI-Illustration.jpg"/>
            <p:cNvPicPr/>
            <p:nvPr/>
          </p:nvPicPr>
          <p:blipFill>
            <a:blip r:embed="rId3"/>
            <a:srcRect l="0" t="0" r="5591" b="1573"/>
            <a:stretch/>
          </p:blipFill>
          <p:spPr>
            <a:xfrm>
              <a:off x="3780000" y="1989000"/>
              <a:ext cx="105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0" descr="D:\!МолодыеТихоновы-Е.В\!Работа-сделать\РЦОИ\17693_732062542_medium.jpg"/>
            <p:cNvPicPr/>
            <p:nvPr/>
          </p:nvPicPr>
          <p:blipFill>
            <a:blip r:embed="rId4"/>
            <a:stretch/>
          </p:blipFill>
          <p:spPr>
            <a:xfrm>
              <a:off x="3980520" y="2035800"/>
              <a:ext cx="6156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9" name="Picture 11" descr="D:\!МолодыеТихоновы-Е.В\!Работа-сделать\РЦОИ\pinac2.jpg"/>
          <p:cNvPicPr/>
          <p:nvPr/>
        </p:nvPicPr>
        <p:blipFill>
          <a:blip r:embed="rId5"/>
          <a:stretch/>
        </p:blipFill>
        <p:spPr>
          <a:xfrm>
            <a:off x="5364000" y="1878120"/>
            <a:ext cx="1128960" cy="11206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4" descr="D:\!МолодыеТихоновы-Е.В\!Работа-сделать\РЦОИ\223007-3d-Teeny-Person-Thinking-Over-A-Prohibited-Sign.jpg"/>
          <p:cNvPicPr/>
          <p:nvPr/>
        </p:nvPicPr>
        <p:blipFill>
          <a:blip r:embed="rId6"/>
          <a:srcRect l="0" t="0" r="0" b="10005"/>
          <a:stretch/>
        </p:blipFill>
        <p:spPr>
          <a:xfrm>
            <a:off x="900000" y="2284560"/>
            <a:ext cx="1368360" cy="1396800"/>
          </a:xfrm>
          <a:prstGeom prst="rect">
            <a:avLst/>
          </a:prstGeom>
          <a:ln w="0">
            <a:noFill/>
          </a:ln>
        </p:spPr>
      </p:pic>
      <p:sp>
        <p:nvSpPr>
          <p:cNvPr id="1991" name="TextBox 6"/>
          <p:cNvSpPr/>
          <p:nvPr/>
        </p:nvSpPr>
        <p:spPr>
          <a:xfrm>
            <a:off x="3125880" y="106992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обильную и иную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6"/>
          <p:cNvSpPr/>
          <p:nvPr/>
        </p:nvSpPr>
        <p:spPr>
          <a:xfrm>
            <a:off x="5861160" y="105264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и фото и видео съемку, звуко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Группа 33"/>
          <p:cNvGrpSpPr/>
          <p:nvPr/>
        </p:nvGrpSpPr>
        <p:grpSpPr>
          <a:xfrm>
            <a:off x="7723080" y="1916280"/>
            <a:ext cx="1062000" cy="1120680"/>
            <a:chOff x="7723080" y="1916280"/>
            <a:chExt cx="1062000" cy="1120680"/>
          </a:xfrm>
        </p:grpSpPr>
        <p:pic>
          <p:nvPicPr>
            <p:cNvPr id="1994" name="Picture 13" descr="D:\!МолодыеТихоновы-Е.В\!Работа-сделать\РЦОИ\1088009-3d-Teeny-White-Person-Camera-Man.jpg"/>
            <p:cNvPicPr/>
            <p:nvPr/>
          </p:nvPicPr>
          <p:blipFill>
            <a:blip r:embed="rId7"/>
            <a:srcRect l="0" t="0" r="4743" b="13523"/>
            <a:stretch/>
          </p:blipFill>
          <p:spPr>
            <a:xfrm>
              <a:off x="7732800" y="1916280"/>
              <a:ext cx="1052280" cy="112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5" name="Группа 6"/>
            <p:cNvGrpSpPr/>
            <p:nvPr/>
          </p:nvGrpSpPr>
          <p:grpSpPr>
            <a:xfrm>
              <a:off x="7723080" y="1937520"/>
              <a:ext cx="1028520" cy="1010160"/>
              <a:chOff x="7723080" y="1937520"/>
              <a:chExt cx="1028520" cy="1010160"/>
            </a:xfrm>
          </p:grpSpPr>
          <p:sp>
            <p:nvSpPr>
              <p:cNvPr id="1996" name="Овал 2"/>
              <p:cNvSpPr/>
              <p:nvPr/>
            </p:nvSpPr>
            <p:spPr>
              <a:xfrm>
                <a:off x="7723080" y="1937520"/>
                <a:ext cx="1028520" cy="101016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Прямая соединительная линия 4"/>
              <p:cNvSpPr/>
              <p:nvPr/>
            </p:nvSpPr>
            <p:spPr>
              <a:xfrm>
                <a:off x="7873560" y="2084760"/>
                <a:ext cx="727200" cy="7153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8" name="Прямая соединительная линия 12"/>
          <p:cNvSpPr/>
          <p:nvPr/>
        </p:nvSpPr>
        <p:spPr>
          <a:xfrm>
            <a:off x="515880" y="458136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16" descr="D:\!МолодыеТихоновы-Е.В\!Работа-сделать\РЦОИ\1088106-3d-Teeny-White-Person-Going-To-The-Restroom.jpg"/>
          <p:cNvPicPr/>
          <p:nvPr/>
        </p:nvPicPr>
        <p:blipFill>
          <a:blip r:embed="rId8"/>
          <a:srcRect l="0" t="0" r="0" b="10288"/>
          <a:stretch/>
        </p:blipFill>
        <p:spPr>
          <a:xfrm>
            <a:off x="2519280" y="4761000"/>
            <a:ext cx="828720" cy="842760"/>
          </a:xfrm>
          <a:prstGeom prst="rect">
            <a:avLst/>
          </a:prstGeom>
          <a:ln w="0">
            <a:noFill/>
          </a:ln>
        </p:spPr>
      </p:pic>
      <p:sp>
        <p:nvSpPr>
          <p:cNvPr id="2000" name="Прямоугольник 28"/>
          <p:cNvSpPr/>
          <p:nvPr/>
        </p:nvSpPr>
        <p:spPr>
          <a:xfrm>
            <a:off x="395280" y="692280"/>
            <a:ext cx="8064360" cy="36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Группа 32"/>
          <p:cNvGrpSpPr/>
          <p:nvPr/>
        </p:nvGrpSpPr>
        <p:grpSpPr>
          <a:xfrm>
            <a:off x="6561000" y="2643120"/>
            <a:ext cx="1028880" cy="1079640"/>
            <a:chOff x="6561000" y="2643120"/>
            <a:chExt cx="1028880" cy="1079640"/>
          </a:xfrm>
        </p:grpSpPr>
        <p:pic>
          <p:nvPicPr>
            <p:cNvPr id="2002" name="Picture 2" descr="X:\11_Тихонов\2012\презент2012\221960-3d-Teeny-Person-Using-A-Microphone-1.jpg"/>
            <p:cNvPicPr/>
            <p:nvPr/>
          </p:nvPicPr>
          <p:blipFill>
            <a:blip r:embed="rId9"/>
            <a:srcRect l="0" t="0" r="12020" b="0"/>
            <a:stretch/>
          </p:blipFill>
          <p:spPr>
            <a:xfrm>
              <a:off x="6660000" y="2692080"/>
              <a:ext cx="804960" cy="10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3" name="Группа 6"/>
            <p:cNvGrpSpPr/>
            <p:nvPr/>
          </p:nvGrpSpPr>
          <p:grpSpPr>
            <a:xfrm>
              <a:off x="6561000" y="2643120"/>
              <a:ext cx="1028880" cy="1009800"/>
              <a:chOff x="6561000" y="2643120"/>
              <a:chExt cx="1028880" cy="1009800"/>
            </a:xfrm>
          </p:grpSpPr>
          <p:sp>
            <p:nvSpPr>
              <p:cNvPr id="2004" name="Овал 30"/>
              <p:cNvSpPr/>
              <p:nvPr/>
            </p:nvSpPr>
            <p:spPr>
              <a:xfrm>
                <a:off x="6561000" y="2643120"/>
                <a:ext cx="1028880" cy="100980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Прямая соединительная линия 31"/>
              <p:cNvSpPr/>
              <p:nvPr/>
            </p:nvSpPr>
            <p:spPr>
              <a:xfrm>
                <a:off x="6711840" y="2790720"/>
                <a:ext cx="727200" cy="714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6" name="Picture 3" descr="X:\11_Тихонов\2012\презент2012\1087780-3d-Teeny-White-Paramedics-Loading-A-Person-Into-An-Ambulance.jpg"/>
          <p:cNvPicPr/>
          <p:nvPr/>
        </p:nvPicPr>
        <p:blipFill>
          <a:blip r:embed="rId10"/>
          <a:srcRect l="0" t="4795" r="1682" b="11360"/>
          <a:stretch/>
        </p:blipFill>
        <p:spPr>
          <a:xfrm>
            <a:off x="539640" y="4640400"/>
            <a:ext cx="1440000" cy="108720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7"/>
          <p:cNvSpPr/>
          <p:nvPr/>
        </p:nvSpPr>
        <p:spPr>
          <a:xfrm>
            <a:off x="4284720" y="46893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йти можно по уважительным причинам и только в сопровождении дежу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7"/>
          <p:cNvSpPr/>
          <p:nvPr/>
        </p:nvSpPr>
        <p:spPr>
          <a:xfrm>
            <a:off x="179280" y="5904000"/>
            <a:ext cx="88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ы нарушите установленные правила, Вас могут удалить с экза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Picture 2" descr="X:\11_Тихонов\2012\презент2012\221982-3d-Teeny-Person-With-A-Red-Exclamation-Point.jpg"/>
          <p:cNvPicPr/>
          <p:nvPr/>
        </p:nvPicPr>
        <p:blipFill>
          <a:blip r:embed="rId1"/>
          <a:srcRect l="0" t="0" r="14855" b="0"/>
          <a:stretch/>
        </p:blipFill>
        <p:spPr>
          <a:xfrm>
            <a:off x="5102280" y="6058080"/>
            <a:ext cx="298440" cy="3934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22" descr="G:\РЦОИ\2012\презент2012\1088557-3d-Teeny-White-Person-Walking-Towards-An-Open-Door.jpg"/>
          <p:cNvPicPr/>
          <p:nvPr/>
        </p:nvPicPr>
        <p:blipFill>
          <a:blip r:embed="rId2"/>
          <a:srcRect l="0" t="0" r="0" b="14791"/>
          <a:stretch/>
        </p:blipFill>
        <p:spPr>
          <a:xfrm>
            <a:off x="123840" y="620640"/>
            <a:ext cx="1336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01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1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1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18" name="TextBox 10"/>
          <p:cNvSpPr/>
          <p:nvPr/>
        </p:nvSpPr>
        <p:spPr>
          <a:xfrm>
            <a:off x="298440" y="30337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хватке места для записи ответов на задания части С можно попросить у организатора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бланк ответов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Прямая соединительная линия 12"/>
          <p:cNvSpPr/>
          <p:nvPr/>
        </p:nvSpPr>
        <p:spPr>
          <a:xfrm>
            <a:off x="515880" y="270828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7"/>
          <p:cNvSpPr/>
          <p:nvPr/>
        </p:nvSpPr>
        <p:spPr>
          <a:xfrm>
            <a:off x="1403280" y="65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ходе из аудитории во время экзамена  бланки остаются на столе обучающегося, организатор визуально смотрит, со стола ничего не бе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2" descr="X:\11_Тихонов\2012\презент2012\221982-3d-Teeny-Person-With-A-Red-Exclamation-Point.jpg"/>
          <p:cNvPicPr/>
          <p:nvPr/>
        </p:nvPicPr>
        <p:blipFill>
          <a:blip r:embed="rId5"/>
          <a:srcRect l="0" t="0" r="14855" b="0"/>
          <a:stretch/>
        </p:blipFill>
        <p:spPr>
          <a:xfrm>
            <a:off x="7740720" y="762120"/>
            <a:ext cx="1165320" cy="1542960"/>
          </a:xfrm>
          <a:prstGeom prst="rect">
            <a:avLst/>
          </a:prstGeom>
          <a:ln w="0">
            <a:noFill/>
          </a:ln>
        </p:spPr>
      </p:pic>
      <p:sp>
        <p:nvSpPr>
          <p:cNvPr id="2022" name="Прямоугольник 36"/>
          <p:cNvSpPr/>
          <p:nvPr/>
        </p:nvSpPr>
        <p:spPr>
          <a:xfrm>
            <a:off x="1079640" y="44737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экзамена все участники должны сд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Picture 2" descr="X:\11_Тихонов\2012\презент2012\1088555-3d-Teeny-White-Person-Reading-A-Long-List.jpg"/>
          <p:cNvPicPr/>
          <p:nvPr/>
        </p:nvPicPr>
        <p:blipFill>
          <a:blip r:embed="rId6"/>
          <a:srcRect l="0" t="0" r="0" b="13747"/>
          <a:stretch/>
        </p:blipFill>
        <p:spPr>
          <a:xfrm>
            <a:off x="6389640" y="3033720"/>
            <a:ext cx="1517760" cy="1160280"/>
          </a:xfrm>
          <a:prstGeom prst="rect">
            <a:avLst/>
          </a:prstGeom>
          <a:ln w="0">
            <a:noFill/>
          </a:ln>
        </p:spPr>
      </p:pic>
      <p:sp>
        <p:nvSpPr>
          <p:cNvPr id="2024" name="Прямоугольник 37"/>
          <p:cNvSpPr/>
          <p:nvPr/>
        </p:nvSpPr>
        <p:spPr>
          <a:xfrm>
            <a:off x="670320" y="4932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Прямоугольник 39"/>
          <p:cNvSpPr/>
          <p:nvPr/>
        </p:nvSpPr>
        <p:spPr>
          <a:xfrm>
            <a:off x="731880" y="53942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 и К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3" descr="X:\11_Тихонов\2012\презент2012\221715-3d-Teeny-Person-Carrying-A-Blue-House.jpg"/>
          <p:cNvPicPr/>
          <p:nvPr/>
        </p:nvPicPr>
        <p:blipFill>
          <a:blip r:embed="rId7"/>
          <a:srcRect l="0" t="0" r="11381" b="7842"/>
          <a:stretch/>
        </p:blipFill>
        <p:spPr>
          <a:xfrm>
            <a:off x="3182760" y="5013360"/>
            <a:ext cx="776520" cy="91116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15"/>
          <a:stretch/>
        </p:blipFill>
        <p:spPr>
          <a:xfrm>
            <a:off x="360360" y="4384800"/>
            <a:ext cx="719280" cy="495000"/>
          </a:xfrm>
          <a:prstGeom prst="rect">
            <a:avLst/>
          </a:prstGeom>
          <a:ln w="0">
            <a:noFill/>
          </a:ln>
        </p:spPr>
      </p:pic>
      <p:sp>
        <p:nvSpPr>
          <p:cNvPr id="2028" name="Прямоугольник 42"/>
          <p:cNvSpPr/>
          <p:nvPr/>
        </p:nvSpPr>
        <p:spPr>
          <a:xfrm>
            <a:off x="34920" y="5807160"/>
            <a:ext cx="90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даче материалов необходимо расписаться в ведо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7"/>
          <p:cNvSpPr/>
          <p:nvPr/>
        </p:nvSpPr>
        <p:spPr>
          <a:xfrm>
            <a:off x="792000" y="1604880"/>
            <a:ext cx="68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кзамен не завершен по уважительной причине, то решение о его пересдаче выносит государственная экзаменационная комиссия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Прямая соединительная линия 21"/>
          <p:cNvSpPr/>
          <p:nvPr/>
        </p:nvSpPr>
        <p:spPr>
          <a:xfrm>
            <a:off x="515880" y="441000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32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38" name="TextBox 10"/>
          <p:cNvSpPr/>
          <p:nvPr/>
        </p:nvSpPr>
        <p:spPr>
          <a:xfrm>
            <a:off x="826920" y="3429000"/>
            <a:ext cx="8315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сбора экзаменационных материалов организаторы в аудиториях пересчитывают бланки и запечатывают их в специальные доставочные пакеты (конв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Прямоугольник 36"/>
          <p:cNvSpPr/>
          <p:nvPr/>
        </p:nvSpPr>
        <p:spPr>
          <a:xfrm>
            <a:off x="298440" y="800280"/>
            <a:ext cx="73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ать экзаменационные материалы можно раньше, если все выполнено, но не позднее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инут до конца самого эк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7907400" y="804960"/>
            <a:ext cx="841320" cy="1114200"/>
          </a:xfrm>
          <a:prstGeom prst="rect">
            <a:avLst/>
          </a:prstGeom>
          <a:ln w="0">
            <a:noFill/>
          </a:ln>
        </p:spPr>
      </p:pic>
      <p:sp>
        <p:nvSpPr>
          <p:cNvPr id="2041" name="Прямоугольник 20"/>
          <p:cNvSpPr/>
          <p:nvPr/>
        </p:nvSpPr>
        <p:spPr>
          <a:xfrm>
            <a:off x="108000" y="2457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рганизаторы самостоятельно собирают экзаменацион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X:\11_Тихонов\2012\презент2012\221720-3d-Teeny-Person-Carrying-A-Box.jpg"/>
          <p:cNvPicPr/>
          <p:nvPr/>
        </p:nvPicPr>
        <p:blipFill>
          <a:blip r:embed="rId4"/>
          <a:srcRect l="0" t="0" r="0" b="9738"/>
          <a:stretch/>
        </p:blipFill>
        <p:spPr>
          <a:xfrm>
            <a:off x="3598920" y="5054760"/>
            <a:ext cx="1298520" cy="132696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3" descr="X:\11_Тихонов\2012\презент2012\1087249-3d-Teeny-White-Teenage-Person-Stepping-On-Notebooks.jpg"/>
          <p:cNvPicPr/>
          <p:nvPr/>
        </p:nvPicPr>
        <p:blipFill>
          <a:blip r:embed="rId5"/>
          <a:srcRect l="0" t="0" r="0" b="11606"/>
          <a:stretch/>
        </p:blipFill>
        <p:spPr>
          <a:xfrm>
            <a:off x="3598920" y="170028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1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дном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из обязательных предметов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русский язык или математика), то он может пересдать этот экзамен в этом же году в резервные дн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954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В 9 классе могут повторно сдать экзамены обучающиеся, получившие неудовлетворительные результаты по двум учебным предметам в резервные дн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кже допускаются к пересдаче в 9 и 11 классах обучающиеся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явившиеся на экзамены по уважительным причинам (болезнь или иные обстоятельства, подтвержденные документально)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завершившие выполнение экзаменационной работы  по уважительным причинам (болезнь или иные обстоятельства, подтвержденные документально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ssandra"/>
              </a:rPr>
              <a:t>Апелляц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пелляция – это письменное заявление участника ГИА либо о нарушении установленного порядка проведения ЕГЭ, ОГЭ; либо о несогласии с результатами ЕГЭ, ОГЭ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5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Экзамен проходил с нарушениями? Результат по баллам не удовлетворил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57" name="TextBox 7"/>
          <p:cNvSpPr/>
          <p:nvPr/>
        </p:nvSpPr>
        <p:spPr>
          <a:xfrm>
            <a:off x="3581280" y="652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0"/>
          <p:cNvSpPr/>
          <p:nvPr/>
        </p:nvSpPr>
        <p:spPr>
          <a:xfrm>
            <a:off x="1368360" y="15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Box 11"/>
          <p:cNvSpPr/>
          <p:nvPr/>
        </p:nvSpPr>
        <p:spPr>
          <a:xfrm>
            <a:off x="575928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бал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Прямоугольник 1"/>
          <p:cNvSpPr/>
          <p:nvPr/>
        </p:nvSpPr>
        <p:spPr>
          <a:xfrm>
            <a:off x="306360" y="22417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и установленного порядка провед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Прямоугольник 13"/>
          <p:cNvSpPr/>
          <p:nvPr/>
        </p:nvSpPr>
        <p:spPr>
          <a:xfrm>
            <a:off x="304920" y="4157640"/>
            <a:ext cx="36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бланков ЕГ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ыхода из ППЭ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лномоченному представителю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Прямоугольник 14"/>
          <p:cNvSpPr/>
          <p:nvPr/>
        </p:nvSpPr>
        <p:spPr>
          <a:xfrm>
            <a:off x="4429080" y="4157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двух рабочих дней после официального объявления результатов экзамена, руководителю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4200480" y="1233360"/>
            <a:ext cx="839880" cy="1113120"/>
          </a:xfrm>
          <a:prstGeom prst="rect">
            <a:avLst/>
          </a:prstGeom>
          <a:ln w="0">
            <a:noFill/>
          </a:ln>
        </p:spPr>
      </p:pic>
      <p:sp>
        <p:nvSpPr>
          <p:cNvPr id="2064" name="Дуга 20"/>
          <p:cNvSpPr/>
          <p:nvPr/>
        </p:nvSpPr>
        <p:spPr>
          <a:xfrm>
            <a:off x="4500720" y="879480"/>
            <a:ext cx="2232000" cy="1325520"/>
          </a:xfrm>
          <a:custGeom>
            <a:avLst/>
            <a:gdLst/>
            <a:ahLst/>
            <a:rect l="l" t="t" r="r" b="b"/>
            <a:pathLst>
              <a:path stroke="0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  <a:lnTo>
                  <a:pt x="1116013" y="662782"/>
                </a:lnTo>
                <a:cubicBezTo>
                  <a:pt x="1116013" y="441855"/>
                  <a:pt x="1116012" y="220927"/>
                  <a:pt x="1116012" y="0"/>
                </a:cubicBezTo>
                <a:close/>
              </a:path>
              <a:path fill="none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</a:path>
            </a:pathLst>
          </a:custGeom>
          <a:noFill/>
          <a:ln w="44280">
            <a:solidFill>
              <a:srgbClr val="c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Дуга 21"/>
          <p:cNvSpPr/>
          <p:nvPr/>
        </p:nvSpPr>
        <p:spPr>
          <a:xfrm flipH="1">
            <a:off x="2267640" y="879480"/>
            <a:ext cx="2303640" cy="1440000"/>
          </a:xfrm>
          <a:custGeom>
            <a:avLst/>
            <a:gdLst/>
            <a:ahLst/>
            <a:rect l="l" t="t" r="r" b="b"/>
            <a:pathLst>
              <a:path stroke="0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  <a:lnTo>
                  <a:pt x="1151731" y="719932"/>
                </a:lnTo>
                <a:lnTo>
                  <a:pt x="1151731" y="0"/>
                </a:lnTo>
                <a:close/>
              </a:path>
              <a:path fill="none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Прямоугольник 1"/>
          <p:cNvSpPr/>
          <p:nvPr/>
        </p:nvSpPr>
        <p:spPr>
          <a:xfrm>
            <a:off x="5329080" y="2205000"/>
            <a:ext cx="33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ами) по ЕГЭ и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7"/>
          <p:cNvSpPr/>
          <p:nvPr/>
        </p:nvSpPr>
        <p:spPr>
          <a:xfrm>
            <a:off x="304920" y="5718240"/>
            <a:ext cx="83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заседании Конфликтной комиссии принимаются решения об отклонении или удовлетворении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7"/>
          <p:cNvSpPr/>
          <p:nvPr/>
        </p:nvSpPr>
        <p:spPr>
          <a:xfrm>
            <a:off x="3581280" y="3429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AutoShape 17"/>
          <p:cNvSpPr/>
          <p:nvPr/>
        </p:nvSpPr>
        <p:spPr>
          <a:xfrm rot="16200000">
            <a:off x="2126160" y="3774240"/>
            <a:ext cx="300240" cy="161640"/>
          </a:xfrm>
          <a:prstGeom prst="leftArrow">
            <a:avLst>
              <a:gd name="adj1" fmla="val 50000"/>
              <a:gd name="adj2" fmla="val 4365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7"/>
          <p:cNvSpPr/>
          <p:nvPr/>
        </p:nvSpPr>
        <p:spPr>
          <a:xfrm rot="16200000">
            <a:off x="6582600" y="3774240"/>
            <a:ext cx="300240" cy="162000"/>
          </a:xfrm>
          <a:prstGeom prst="leftArrow">
            <a:avLst>
              <a:gd name="adj1" fmla="val 50000"/>
              <a:gd name="adj2" fmla="val 435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autoRev="1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6" dur="1000" fill="hold"/>
                                        <p:tgtEl>
                                          <p:spTgt spid="2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8" dur="1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формой ГИА-9 является ОГ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обучающихся с ОВЗ, детей-инвалидов и инвалидов итоговая аттестация проводится в форме ГВ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проведения ЕГЭ и ОГЭ составляетс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диное расписание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Результаты  рассмотрения апелляции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X:\11_Тихонов\2012\презент2012\1087186-3d-Teeny-White-Person-Typing-On-A-Keyboard-By-WWW.jpg"/>
          <p:cNvPicPr/>
          <p:nvPr/>
        </p:nvPicPr>
        <p:blipFill>
          <a:blip r:embed="rId1"/>
          <a:srcRect l="0" t="0" r="0" b="14614"/>
          <a:stretch/>
        </p:blipFill>
        <p:spPr>
          <a:xfrm>
            <a:off x="6788160" y="476280"/>
            <a:ext cx="19051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074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7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осмотреть  и ознакомиться с информацией по ЕГЭ и ОГЭ можно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1" name="Rectangle 1"/>
          <p:cNvSpPr/>
          <p:nvPr/>
        </p:nvSpPr>
        <p:spPr>
          <a:xfrm>
            <a:off x="287280" y="1360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фициальном информационном портале ЕГЭ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ww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stest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Прямоугольник 10"/>
          <p:cNvSpPr/>
          <p:nvPr/>
        </p:nvSpPr>
        <p:spPr>
          <a:xfrm>
            <a:off x="287280" y="3944880"/>
            <a:ext cx="856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Государственного бюджетного учреждения Ростовской области Ростовского  центра обработки информации в сфере образования (далее – РО ЦОИСО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coiso@rost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Кашарского отдела образования администрации Кашарского район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kasharsk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Заголовок 3" descr=""/>
          <p:cNvPicPr/>
          <p:nvPr/>
        </p:nvPicPr>
        <p:blipFill>
          <a:blip r:embed="rId1"/>
          <a:stretch/>
        </p:blipFill>
        <p:spPr>
          <a:xfrm>
            <a:off x="1243080" y="128592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4" name="Диаграмма 4"/>
          <p:cNvGraphicFramePr/>
          <p:nvPr/>
        </p:nvGraphicFramePr>
        <p:xfrm>
          <a:off x="985680" y="1760400"/>
          <a:ext cx="419760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5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760400"/>
                    <a:ext cx="41976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6" name="Picture 4" descr="C:\Users\kadach_tg\Desktop\142237_mobile_512x512.png"/>
          <p:cNvPicPr/>
          <p:nvPr/>
        </p:nvPicPr>
        <p:blipFill>
          <a:blip r:embed="rId4"/>
          <a:stretch/>
        </p:blipFill>
        <p:spPr>
          <a:xfrm rot="20370000">
            <a:off x="5241600" y="360324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6" descr="C:\Users\kadach_tg\Desktop\0_1146b0_759023cd_S.png"/>
          <p:cNvPicPr/>
          <p:nvPr/>
        </p:nvPicPr>
        <p:blipFill>
          <a:blip r:embed="rId5"/>
          <a:stretch/>
        </p:blipFill>
        <p:spPr>
          <a:xfrm rot="354600">
            <a:off x="4711320" y="4906800"/>
            <a:ext cx="765360" cy="83052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7" descr="C:\Users\kadach_tg\Desktop\5a8ad4ab9ea93161ae4ebe82.png"/>
          <p:cNvPicPr/>
          <p:nvPr/>
        </p:nvPicPr>
        <p:blipFill>
          <a:blip r:embed="rId6"/>
          <a:stretch/>
        </p:blipFill>
        <p:spPr>
          <a:xfrm>
            <a:off x="4789440" y="5010120"/>
            <a:ext cx="514440" cy="609480"/>
          </a:xfrm>
          <a:prstGeom prst="rect">
            <a:avLst/>
          </a:prstGeom>
          <a:ln w="0">
            <a:noFill/>
          </a:ln>
        </p:spPr>
      </p:pic>
      <p:cxnSp>
        <p:nvCxnSpPr>
          <p:cNvPr id="2089" name="Соединительная линия уступом 15"/>
          <p:cNvCxnSpPr>
            <a:stCxn id="2086" idx="1"/>
          </p:cNvCxnSpPr>
          <p:nvPr/>
        </p:nvCxnSpPr>
        <p:spPr>
          <a:xfrm rot="10800000">
            <a:off x="4193280" y="3493440"/>
            <a:ext cx="1072440" cy="627840"/>
          </a:xfrm>
          <a:prstGeom prst="bentConnector3">
            <a:avLst>
              <a:gd name="adj1" fmla="val 39758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090" name="Соединительная линия уступом 21"/>
          <p:cNvCxnSpPr>
            <a:stCxn id="2087" idx="1"/>
          </p:cNvCxnSpPr>
          <p:nvPr/>
        </p:nvCxnSpPr>
        <p:spPr>
          <a:xfrm rot="10800000">
            <a:off x="3276000" y="4868280"/>
            <a:ext cx="1437120" cy="415080"/>
          </a:xfrm>
          <a:prstGeom prst="bentConnector3">
            <a:avLst>
              <a:gd name="adj1" fmla="val 100225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091" name="Прямоугольник 49"/>
          <p:cNvSpPr/>
          <p:nvPr/>
        </p:nvSpPr>
        <p:spPr>
          <a:xfrm>
            <a:off x="6081840" y="3925800"/>
            <a:ext cx="191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Донец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51"/>
          <p:cNvSpPr/>
          <p:nvPr/>
        </p:nvSpPr>
        <p:spPr>
          <a:xfrm>
            <a:off x="5516640" y="5227560"/>
            <a:ext cx="24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Азовский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55"/>
          <p:cNvSpPr/>
          <p:nvPr/>
        </p:nvSpPr>
        <p:spPr>
          <a:xfrm>
            <a:off x="5516640" y="4653000"/>
            <a:ext cx="2496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Ворошиловский 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Заголовок 3" descr=""/>
          <p:cNvPicPr/>
          <p:nvPr/>
        </p:nvPicPr>
        <p:blipFill>
          <a:blip r:embed="rId7"/>
          <a:stretch/>
        </p:blipFill>
        <p:spPr>
          <a:xfrm>
            <a:off x="5327640" y="2084400"/>
            <a:ext cx="3225960" cy="646200"/>
          </a:xfrm>
          <a:prstGeom prst="rect">
            <a:avLst/>
          </a:prstGeom>
          <a:ln w="0">
            <a:noFill/>
          </a:ln>
        </p:spPr>
      </p:pic>
      <p:sp>
        <p:nvSpPr>
          <p:cNvPr id="2095" name="Прямоугольник 63"/>
          <p:cNvSpPr/>
          <p:nvPr/>
        </p:nvSpPr>
        <p:spPr>
          <a:xfrm>
            <a:off x="5303880" y="2581200"/>
            <a:ext cx="3267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далены за наличие запрещенных средств с повторным допу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 сдаче ГИА-9 в сентябрьски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6" name="Заголовок 3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7" name="Диаграмма 4"/>
          <p:cNvGraphicFramePr/>
          <p:nvPr/>
        </p:nvGraphicFramePr>
        <p:xfrm>
          <a:off x="1452600" y="1596960"/>
          <a:ext cx="3808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596960"/>
                    <a:ext cx="3808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9" name="Picture 3" descr="C:\Users\kadach_tg\Desktop\calculator_yellow.png"/>
          <p:cNvPicPr/>
          <p:nvPr/>
        </p:nvPicPr>
        <p:blipFill>
          <a:blip r:embed="rId4"/>
          <a:stretch/>
        </p:blipFill>
        <p:spPr>
          <a:xfrm rot="20838600">
            <a:off x="1440000" y="1722600"/>
            <a:ext cx="628560" cy="671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C:\Users\kadach_tg\Desktop\142237_mobile_512x512.png"/>
          <p:cNvPicPr/>
          <p:nvPr/>
        </p:nvPicPr>
        <p:blipFill>
          <a:blip r:embed="rId5"/>
          <a:stretch/>
        </p:blipFill>
        <p:spPr>
          <a:xfrm rot="20370000">
            <a:off x="4156200" y="3623760"/>
            <a:ext cx="768240" cy="766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6" descr="C:\Users\kadach_tg\Desktop\0_1146b0_759023cd_S.png"/>
          <p:cNvPicPr/>
          <p:nvPr/>
        </p:nvPicPr>
        <p:blipFill>
          <a:blip r:embed="rId6"/>
          <a:stretch/>
        </p:blipFill>
        <p:spPr>
          <a:xfrm rot="354600">
            <a:off x="1329840" y="3559320"/>
            <a:ext cx="765360" cy="8301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7" descr="C:\Users\kadach_tg\Desktop\5a8ad4ab9ea93161ae4ebe82.png"/>
          <p:cNvPicPr/>
          <p:nvPr/>
        </p:nvPicPr>
        <p:blipFill>
          <a:blip r:embed="rId7"/>
          <a:stretch/>
        </p:blipFill>
        <p:spPr>
          <a:xfrm>
            <a:off x="1407960" y="3662280"/>
            <a:ext cx="514440" cy="609840"/>
          </a:xfrm>
          <a:prstGeom prst="rect">
            <a:avLst/>
          </a:prstGeom>
          <a:ln w="0">
            <a:noFill/>
          </a:ln>
        </p:spPr>
      </p:pic>
      <p:cxnSp>
        <p:nvCxnSpPr>
          <p:cNvPr id="2103" name="Соединительная линия уступом 6"/>
          <p:cNvCxnSpPr>
            <a:stCxn id="2099" idx="3"/>
          </p:cNvCxnSpPr>
          <p:nvPr/>
        </p:nvCxnSpPr>
        <p:spPr>
          <a:xfrm>
            <a:off x="2131920" y="1766520"/>
            <a:ext cx="766080" cy="244800"/>
          </a:xfrm>
          <a:prstGeom prst="bentConnector3">
            <a:avLst>
              <a:gd name="adj1" fmla="val 101316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4" name="Соединительная линия уступом 15"/>
          <p:cNvCxnSpPr/>
          <p:nvPr/>
        </p:nvCxnSpPr>
        <p:spPr>
          <a:xfrm flipV="1" rot="16200000">
            <a:off x="4149360" y="3037680"/>
            <a:ext cx="480240" cy="473760"/>
          </a:xfrm>
          <a:prstGeom prst="bentConnector3">
            <a:avLst>
              <a:gd name="adj1" fmla="val 99549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5" name="Соединительная линия уступом 21"/>
          <p:cNvCxnSpPr>
            <a:stCxn id="2102" idx="0"/>
          </p:cNvCxnSpPr>
          <p:nvPr/>
        </p:nvCxnSpPr>
        <p:spPr>
          <a:xfrm flipH="1" flipV="1" rot="5400000">
            <a:off x="1802160" y="3260160"/>
            <a:ext cx="264240" cy="540360"/>
          </a:xfrm>
          <a:prstGeom prst="bentConnector2">
            <a:avLst/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106" name="Прямоугольник 45"/>
          <p:cNvSpPr/>
          <p:nvPr/>
        </p:nvSpPr>
        <p:spPr>
          <a:xfrm>
            <a:off x="5425920" y="4017960"/>
            <a:ext cx="1822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кс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Овал 1037"/>
          <p:cNvGrpSpPr/>
          <p:nvPr/>
        </p:nvGrpSpPr>
        <p:grpSpPr>
          <a:xfrm>
            <a:off x="7338960" y="3943440"/>
            <a:ext cx="488880" cy="420480"/>
            <a:chOff x="7338960" y="3943440"/>
            <a:chExt cx="488880" cy="420480"/>
          </a:xfrm>
        </p:grpSpPr>
        <p:pic>
          <p:nvPicPr>
            <p:cNvPr id="2108" name="Овал 1037" descr=""/>
            <p:cNvPicPr/>
            <p:nvPr/>
          </p:nvPicPr>
          <p:blipFill>
            <a:blip r:embed="rId8"/>
            <a:stretch/>
          </p:blipFill>
          <p:spPr>
            <a:xfrm>
              <a:off x="7338960" y="39434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>
              <a:off x="7426440" y="402264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Прямоугольник 47"/>
          <p:cNvSpPr/>
          <p:nvPr/>
        </p:nvSpPr>
        <p:spPr>
          <a:xfrm>
            <a:off x="4778280" y="455292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станти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Овал 48"/>
          <p:cNvGrpSpPr/>
          <p:nvPr/>
        </p:nvGrpSpPr>
        <p:grpSpPr>
          <a:xfrm>
            <a:off x="7338960" y="4479840"/>
            <a:ext cx="488880" cy="420840"/>
            <a:chOff x="7338960" y="4479840"/>
            <a:chExt cx="488880" cy="420840"/>
          </a:xfrm>
        </p:grpSpPr>
        <p:pic>
          <p:nvPicPr>
            <p:cNvPr id="2112" name="Овал 48" descr=""/>
            <p:cNvPicPr/>
            <p:nvPr/>
          </p:nvPicPr>
          <p:blipFill>
            <a:blip r:embed="rId9"/>
            <a:stretch/>
          </p:blipFill>
          <p:spPr>
            <a:xfrm>
              <a:off x="7338960" y="447984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"/>
            <p:cNvSpPr/>
            <p:nvPr/>
          </p:nvSpPr>
          <p:spPr>
            <a:xfrm>
              <a:off x="7426440" y="455616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Прямоугольник 49"/>
          <p:cNvSpPr/>
          <p:nvPr/>
        </p:nvSpPr>
        <p:spPr>
          <a:xfrm>
            <a:off x="4778280" y="505944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рты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Овал 50"/>
          <p:cNvGrpSpPr/>
          <p:nvPr/>
        </p:nvGrpSpPr>
        <p:grpSpPr>
          <a:xfrm>
            <a:off x="7338960" y="4992840"/>
            <a:ext cx="488880" cy="420480"/>
            <a:chOff x="7338960" y="4992840"/>
            <a:chExt cx="488880" cy="420480"/>
          </a:xfrm>
        </p:grpSpPr>
        <p:pic>
          <p:nvPicPr>
            <p:cNvPr id="2116" name="Овал 50" descr=""/>
            <p:cNvPicPr/>
            <p:nvPr/>
          </p:nvPicPr>
          <p:blipFill>
            <a:blip r:embed="rId10"/>
            <a:stretch/>
          </p:blipFill>
          <p:spPr>
            <a:xfrm>
              <a:off x="7338960" y="49928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"/>
            <p:cNvSpPr/>
            <p:nvPr/>
          </p:nvSpPr>
          <p:spPr>
            <a:xfrm>
              <a:off x="7426440" y="506880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Прямоугольник 51"/>
          <p:cNvSpPr/>
          <p:nvPr/>
        </p:nvSpPr>
        <p:spPr>
          <a:xfrm>
            <a:off x="4859280" y="55418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арас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Овал 52"/>
          <p:cNvGrpSpPr/>
          <p:nvPr/>
        </p:nvGrpSpPr>
        <p:grpSpPr>
          <a:xfrm>
            <a:off x="7338960" y="5473800"/>
            <a:ext cx="488880" cy="420480"/>
            <a:chOff x="7338960" y="5473800"/>
            <a:chExt cx="488880" cy="420480"/>
          </a:xfrm>
        </p:grpSpPr>
        <p:pic>
          <p:nvPicPr>
            <p:cNvPr id="2120" name="Овал 52" descr=""/>
            <p:cNvPicPr/>
            <p:nvPr/>
          </p:nvPicPr>
          <p:blipFill>
            <a:blip r:embed="rId11"/>
            <a:stretch/>
          </p:blipFill>
          <p:spPr>
            <a:xfrm>
              <a:off x="7338960" y="547380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7426440" y="554976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Прямоугольник 53"/>
          <p:cNvSpPr/>
          <p:nvPr/>
        </p:nvSpPr>
        <p:spPr>
          <a:xfrm>
            <a:off x="5587920" y="1900080"/>
            <a:ext cx="1660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аль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Овал 54"/>
          <p:cNvGrpSpPr/>
          <p:nvPr/>
        </p:nvGrpSpPr>
        <p:grpSpPr>
          <a:xfrm>
            <a:off x="7338960" y="1865160"/>
            <a:ext cx="488880" cy="420840"/>
            <a:chOff x="7338960" y="1865160"/>
            <a:chExt cx="488880" cy="420840"/>
          </a:xfrm>
        </p:grpSpPr>
        <p:pic>
          <p:nvPicPr>
            <p:cNvPr id="2124" name="Овал 54" descr=""/>
            <p:cNvPicPr/>
            <p:nvPr/>
          </p:nvPicPr>
          <p:blipFill>
            <a:blip r:embed="rId12"/>
            <a:stretch/>
          </p:blipFill>
          <p:spPr>
            <a:xfrm>
              <a:off x="7338960" y="186516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"/>
            <p:cNvSpPr/>
            <p:nvPr/>
          </p:nvSpPr>
          <p:spPr>
            <a:xfrm>
              <a:off x="7426440" y="194328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Прямоугольник 55"/>
          <p:cNvSpPr/>
          <p:nvPr/>
        </p:nvSpPr>
        <p:spPr>
          <a:xfrm>
            <a:off x="4152960" y="2273400"/>
            <a:ext cx="3117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Лениинский, Первомайский, Пролетарский рай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Овал 56"/>
          <p:cNvGrpSpPr/>
          <p:nvPr/>
        </p:nvGrpSpPr>
        <p:grpSpPr>
          <a:xfrm>
            <a:off x="7338960" y="2438280"/>
            <a:ext cx="488880" cy="420840"/>
            <a:chOff x="7338960" y="2438280"/>
            <a:chExt cx="488880" cy="420840"/>
          </a:xfrm>
        </p:grpSpPr>
        <p:pic>
          <p:nvPicPr>
            <p:cNvPr id="2128" name="Овал 56" descr=""/>
            <p:cNvPicPr/>
            <p:nvPr/>
          </p:nvPicPr>
          <p:blipFill>
            <a:blip r:embed="rId13"/>
            <a:stretch/>
          </p:blipFill>
          <p:spPr>
            <a:xfrm>
              <a:off x="7338960" y="243828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"/>
            <p:cNvSpPr/>
            <p:nvPr/>
          </p:nvSpPr>
          <p:spPr>
            <a:xfrm>
              <a:off x="7426440" y="2516040"/>
              <a:ext cx="311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Прямоугольник 57"/>
          <p:cNvSpPr/>
          <p:nvPr/>
        </p:nvSpPr>
        <p:spPr>
          <a:xfrm>
            <a:off x="5711760" y="3063960"/>
            <a:ext cx="153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Зв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Овал 58"/>
          <p:cNvGrpSpPr/>
          <p:nvPr/>
        </p:nvGrpSpPr>
        <p:grpSpPr>
          <a:xfrm>
            <a:off x="7338960" y="2975040"/>
            <a:ext cx="488880" cy="420480"/>
            <a:chOff x="7338960" y="2975040"/>
            <a:chExt cx="488880" cy="420480"/>
          </a:xfrm>
        </p:grpSpPr>
        <p:pic>
          <p:nvPicPr>
            <p:cNvPr id="2132" name="Овал 58" descr=""/>
            <p:cNvPicPr/>
            <p:nvPr/>
          </p:nvPicPr>
          <p:blipFill>
            <a:blip r:embed="rId14"/>
            <a:stretch/>
          </p:blipFill>
          <p:spPr>
            <a:xfrm>
              <a:off x="7338960" y="29750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7426440" y="305424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Прямоугольник 59"/>
          <p:cNvSpPr/>
          <p:nvPr/>
        </p:nvSpPr>
        <p:spPr>
          <a:xfrm>
            <a:off x="5210280" y="3449520"/>
            <a:ext cx="2038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Овал 60"/>
          <p:cNvGrpSpPr/>
          <p:nvPr/>
        </p:nvGrpSpPr>
        <p:grpSpPr>
          <a:xfrm>
            <a:off x="7334280" y="3438360"/>
            <a:ext cx="487440" cy="420840"/>
            <a:chOff x="7334280" y="3438360"/>
            <a:chExt cx="487440" cy="420840"/>
          </a:xfrm>
        </p:grpSpPr>
        <p:pic>
          <p:nvPicPr>
            <p:cNvPr id="2136" name="Овал 60" descr=""/>
            <p:cNvPicPr/>
            <p:nvPr/>
          </p:nvPicPr>
          <p:blipFill>
            <a:blip r:embed="rId15"/>
            <a:stretch/>
          </p:blipFill>
          <p:spPr>
            <a:xfrm>
              <a:off x="7334280" y="3438360"/>
              <a:ext cx="487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7" name=""/>
            <p:cNvSpPr/>
            <p:nvPr/>
          </p:nvSpPr>
          <p:spPr>
            <a:xfrm>
              <a:off x="7421400" y="3516480"/>
              <a:ext cx="311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Заголовок 3" descr=""/>
          <p:cNvPicPr/>
          <p:nvPr/>
        </p:nvPicPr>
        <p:blipFill>
          <a:blip r:embed="rId16"/>
          <a:stretch/>
        </p:blipFill>
        <p:spPr>
          <a:xfrm>
            <a:off x="1427040" y="4443480"/>
            <a:ext cx="3164040" cy="64620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оугольник 104"/>
          <p:cNvSpPr/>
          <p:nvPr/>
        </p:nvSpPr>
        <p:spPr>
          <a:xfrm>
            <a:off x="1376280" y="4940280"/>
            <a:ext cx="3267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зультаты ЕГЭ аннул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 итогам просмотра архива видеозапи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Номер слайда 3"/>
          <p:cNvSpPr/>
          <p:nvPr/>
        </p:nvSpPr>
        <p:spPr>
          <a:xfrm>
            <a:off x="8675640" y="5697360"/>
            <a:ext cx="46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A17-1395-433F-AB7C-BC1B66E04DC5}" type="slidenum">
              <a:rPr b="0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8"/>
          <p:cNvSpPr/>
          <p:nvPr/>
        </p:nvSpPr>
        <p:spPr>
          <a:xfrm>
            <a:off x="184320" y="2202480"/>
            <a:ext cx="8635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ая информационная и разъяснительная работа с обучающимися и их родителями – желают изменить перечень предметов, не знают регламента проведения экзаменов  в форме ОГЭ и ГВЭ, не знают процедуры оформления апелля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трольность процесса проведения экзамена в ППЭ (нарушения организаторов,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исутствие учителей предмет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рганизация обучения выпускников: ознакомление с моделями экзаменов, изучение правил заполнения бланков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 http://fipi.ru/; oge-i-gve-9/g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аботников ППЭ, руководителей ППЭ,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 председателей и членов ТЭК, ТПК, 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4"/>
          <p:cNvSpPr/>
          <p:nvPr/>
        </p:nvSpPr>
        <p:spPr>
          <a:xfrm>
            <a:off x="1116000" y="1385640"/>
            <a:ext cx="783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блемы и вопросы, требующие особого внимания при организации подготовки к проведению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44" name="Picture 2" descr="http://cf.ppt-online.org/files/slide/e/egnR3fbJaZlNHrTdjwOo6IxhWYPGtz5ys8Eq19/slide-33.jpg"/>
          <p:cNvPicPr/>
          <p:nvPr/>
        </p:nvPicPr>
        <p:blipFill>
          <a:blip r:embed="rId1"/>
          <a:stretch/>
        </p:blipFill>
        <p:spPr>
          <a:xfrm>
            <a:off x="0" y="-457200"/>
            <a:ext cx="9685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ЕГЭ, ОГЭ -201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50920" y="1557360"/>
            <a:ext cx="86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олучить знания – дело долгое и трудное, а показать результаты своих достижений еще сложнее: как будет проходить ЕГЭ и ОГЭ в 2019 году и какие изменения в эти экзамены внесло Министерство образования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уть к достижению своих целей нелегок, и приходится с малых лет «бороться и искать». Первые школьники, имеющие опыт прохождения сдачи ЕГЭ и ОГЭ уже окончили ВУЗы и колледжи, а что предстоит сегодняшним будущим выпускникам школ, сколько предметов надо будет сдавать в 2019 году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Итоговое сочинени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287280" y="1268280"/>
            <a:ext cx="86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роводится в первую среду декабря, поэтому в 2018 году оно будет назначено на  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декабря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Любой ученик, не сдавший сочинение с первой попытки, может ее повторить, но в случае повторного провала придется отложить все экзамены на следующий год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явление на участие в ЕГЭ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февраля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ача заявления для участия в ГИА-9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марта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явление</a:t>
            </a: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Досрочный период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перио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езервные д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полнительный период (сентябрьские сроки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08000" y="297000"/>
            <a:ext cx="7956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Расписание экзаменов в 9 и 11 класса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ssandra"/>
              </a:rPr>
              <a:t>В 11 классе два обязательных экзамена: русский язык и математика 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900000" y="1160640"/>
            <a:ext cx="79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Математика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стобалльной систем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едметы по выбору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946" name="Рисунок 4" descr="http://steshka.ru/wp-content/uploads/2015/05/kartinki_shkola_deti_uchitelya_7.jpg"/>
          <p:cNvPicPr/>
          <p:nvPr/>
        </p:nvPicPr>
        <p:blipFill>
          <a:blip r:embed="rId1"/>
          <a:stretch/>
        </p:blipFill>
        <p:spPr>
          <a:xfrm>
            <a:off x="0" y="180828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ГИА - 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863640" y="119664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оличество экзаме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вятиклассники должны сдать четыре экзамена: </a:t>
            </a: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два обязательных экзамена по русскому языку и математик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и два обязательных экзамена по выбору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 числа учебных предметов: физика, химия, биология, литература, география, история, обществознание, иностранные языки, информатика и ИКТ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8-11-26T18:25:24Z</dcterms:modified>
  <cp:revision>66</cp:revision>
  <dc:subject/>
  <dc:title>Слайд 1</dc:title>
</cp:coreProperties>
</file>