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29.png" ContentType="image/png"/>
  <Override PartName="/ppt/media/image32.png" ContentType="image/png"/>
  <Override PartName="/ppt/media/image1.jpeg" ContentType="image/jpeg"/>
  <Override PartName="/ppt/media/image41.jpeg" ContentType="image/jpe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</p:sldMasterIdLst>
  <p:notesMasterIdLst>
    <p:notesMasterId r:id="rId49"/>
  </p:notes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  <p:sldId id="277" r:id="rId71"/>
    <p:sldId id="278" r:id="rId72"/>
    <p:sldId id="279" r:id="rId73"/>
    <p:sldId id="280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notesMaster" Target="notesMasters/notesMaster1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slide" Target="slides/slide22.xml"/><Relationship Id="rId72" Type="http://schemas.openxmlformats.org/officeDocument/2006/relationships/slide" Target="slides/slide23.xml"/><Relationship Id="rId73" Type="http://schemas.openxmlformats.org/officeDocument/2006/relationships/slide" Target="slides/slide24.xml"/><Relationship Id="rId74" Type="http://schemas.openxmlformats.org/officeDocument/2006/relationships/slide" Target="slides/slide25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dt" idx="1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move the slide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ftr" idx="1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 type="sldNum" idx="1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3406-B57D-43EC-B359-A5BF3CD566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D13B-5EFB-4526-AA10-FD99851D0C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0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3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6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9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181E-1191-4C9A-A1DB-CECC065DCB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5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ить анимацию на печат маши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8" name="Нижний колонтитул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й центр обработки информации www.rcoi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,  требующие особого внимания в организации подготовки к проведению ГИА-9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и разъяснительная работа с участниками ГИА-9 и их родителями (законными представителями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тавки участников ОГЭ при сдаче экзаменов по выбору в ППЭ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ческое оснащение ППЭ по физике, информатике и ИКТ, иностранным языка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 контроля со стороны Рособрнадзора за организацией  и проведением ОГЭ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ение на сайтах образовательных организаций информации для участников ГИА с ссылкой  на ознакомление с методическими материалами для подготовки и проведения ОГЭ, ГВЭ по всем учебным предметам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http://fipi.ru/ ; oge-i-gve-9/g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дготовка организаторов, включая    руководителей ППЭ  и работы по привлечению  общественных наблюдате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ша общая задача – обеспечить подготовку к ГИА на высоком уровне и выполнить установленные требования к прозрачности и честности проведения экзамена в полной ме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B4C7-8024-4763-B03B-D14A36CD64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2A13D-4137-4FDB-808B-BF8F3601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7B1F7-E560-4E5E-9663-4BD18751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2AE3E-3049-49BA-8D9F-D1A83AD7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DB567-79FE-469A-B74A-E3B3A927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5AE5B-248B-44FD-9EE3-82EC4FB1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EB9F6-5529-4EF3-8778-A06A7078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23F4E-75C2-4DF2-AF99-43F5986F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E011D-AE21-4ED9-993C-99A2E1AC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B5760-82B9-47AB-9905-E5CB45D1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717B0-5C55-4516-90C1-FF389DC52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F20D4-E2DA-4833-BD2A-CBA17388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C84F4-0AB7-4C25-9A61-EF0083F8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8DB5C-5164-4A9E-89D1-C78B5A29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8A581-7230-4831-AD79-EA9A11DF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3D8D1-5F9F-490E-88F4-6174437F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70507-C6C3-4E63-9DF0-C7FF1723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29DDF-6B31-49A3-9C91-A6EFC01D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31135-08EE-4DC6-933E-6CDC803E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577BA-8CE3-4C4C-A3FB-D739A79D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873E9-E473-4679-97EA-1AC7BDB3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51E61-E902-4F61-8E4D-70198130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2DC18-1BC6-4CF3-BB26-29776A9D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BA18B-C26C-493C-B454-44E001A0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6FD87-128B-49EC-A537-C66AE1DE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3163D-D384-4526-B25A-0B3DF16F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6517F-E038-4D45-B897-EBCFE534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EF4E9-D0F4-4A5C-9D35-EF13FBE0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F14FE-E9AA-4623-B7BF-F3F6C419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B280A-A251-445C-A261-1DCA9105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E5170-9F4E-46A9-BBF3-9D42448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E45-D864-4492-A1E0-2F5CF3DD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785DE-0FEC-4223-815C-54D40E1D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1D368-373F-4995-808C-68E1AEFF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D404F-F814-473C-9BCF-F5CF84DE0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F8CFE-F9A7-4B83-95F8-D512B36E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4464E-05A6-4030-AB61-23EEB5EE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4EF31-5B98-4894-9759-1071D977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AE5E0-0A4F-47E4-9D2A-E77DC01A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1AC8A-AABA-4B0D-8FA5-6A5DB0CA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DCA82-2D9F-4B14-9584-DA26BADE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A1498-CF0B-4EBF-AE7D-C7E7D3CD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693-BD4C-4952-9644-2E239A59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EE27B-300D-4AD8-B243-1158EB77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B9DF7-9761-4772-8CCA-6EEAD971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B2F82-3C98-4C73-A098-71B6461C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EAFFF1-874C-42A3-8FFD-DAFC51F5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8CD9E-BA73-429B-BF97-1F75CFF48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BAA01-95C5-480A-ABA9-74B6ED8A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3F88D-2B49-411A-8DA9-719457A7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FBE14-BAB1-40C3-99CD-4F857D71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1C3E9-80BE-48D4-9FF1-5D2C0668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F5825-280C-4D47-BF5E-0A79D78F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ACDF-FE48-4325-A977-42E00FE5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82693-046E-4C4D-8B1E-AB460481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B55F9-6D38-4C5E-827B-5A98EFFD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8AF7E-1575-4C7D-9827-E5EBBDFE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FDD30-0484-4E23-85BF-F80810F9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3E6B2-7E91-42CC-BAE8-2DE1370B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7600F4-6AA4-4F13-AFB5-6F07AADAE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2350B-70B8-4FF3-94E2-19B58DBC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15644-ABD8-499E-9C30-AF4FC0A00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3AE0C-703C-42D6-8088-2346D693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CDFEBB-8E6F-4523-85E3-81BF243A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4A2-4CDD-40A2-94CE-1D4A8E99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ED786-5AAF-4DB7-B863-785C6573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2449F-4C6E-4880-8941-22ED727B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78E91-4A4F-48F1-9C25-7870C117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BDA3C-B375-4D5D-9D51-A839A55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82DB4-CDF7-431A-BE4A-2F59C954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A829C9-1B61-4C76-B493-C770B816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7E9E8-2AD6-4429-97C8-E4B73906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C1485-4CF7-4354-922B-FCE26EA0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60F5B-A519-4795-BBC2-5992724A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B2C96-B125-4BFC-B36A-BDB1D61A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365-913D-4BC1-B722-BF557573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750BA-450C-4196-98DB-93C61423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6CA3C-822A-4267-9F65-4BBB852C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446ACD-AA71-4158-B999-84DE60B2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765F06-3EC9-427C-96E4-D6A3F439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8BA4F-B4E8-42A1-B9E2-2114B673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06127D-76E2-4BC9-B07E-657D174C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405A2-AE9F-412F-AD6A-17A57871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FE24CC-2A7A-42A4-85A8-53466B64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AA8D9-6326-48F1-A992-3E8F7362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028E40-9E81-431B-8C0A-90FAA3D1E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F1B-C46E-4DB2-9517-0E096E65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B3B72-5116-4D0A-8F41-35A1D6985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42F21-1A52-4D2B-89D8-087288D0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79DCB-8778-4329-B19D-00ACA542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26EDB9-91CF-412A-ABFF-AF6AC72E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F8FF2-1759-4EDA-A215-609C89A7A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CA868-0D91-42E8-B305-06E97851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A55D1F-BCFB-4C7B-A2A0-F99D4302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A3DC1-CDF9-4570-A8FE-DBB57640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A32CBE-CC94-414A-BEAF-F7F692F1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7F7F3C-FC37-42D6-9513-0595F841D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6DA-8276-4A04-8A0B-8340EFE9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DD799-3DC1-4F81-AD8E-A4DB6F1C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B9C30-23AE-4766-A200-423036DD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CBC1F-1A97-4961-A209-5BA85D04E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E5347-EF0B-48E0-9691-40B21164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87157-4488-46C2-8F8A-B9854CCB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24940F-580E-48D9-BFA5-84AE1FFD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8FC0D2-8557-47CF-85D4-2F6000DC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86EAE3-02BD-4CB8-9F3D-2FBD02D6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4F4D4-62EE-4693-B9BE-5D499055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9B23F-52AE-4559-B0D3-B8D9B778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449-3AAF-410B-A09C-5194A049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4D81E-1D91-42BB-B6E5-41C9D7ED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B9346-7788-4E82-808E-2EAE2E69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2BA624-4CA3-491A-8B36-11C01329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CC2E3-A6F7-4183-BA9F-526B9AD8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A835F-EB5B-423E-9562-AC48B409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D960EB5-7102-4523-8609-79CB7B54731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7F42D2-2922-4F5F-9354-DDC1FA353E7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56DF012-630C-45FF-A2FC-2D5012AC560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B45B79-F1A3-4C89-8ABB-04AC3CD4477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2BFB6AE-7788-4805-BFFA-A56EA86FE1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E024-233A-4722-85E2-514688C1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20CD585-0162-4EF2-8E87-6101DD2385C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E561531-C42E-4201-A91A-5CC2B86DF0E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BE20950-F722-48DE-B825-61169F79A8F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7C4DB2-4BA4-46A9-AC2C-487BCB6DC07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699AAC-D811-4427-86A6-C263915F7E4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A95F76C-E6F1-4D5C-AEC9-D2FFDEAD241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EABDF49-03EC-405A-9F87-07A48AA3952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D50D4A0-6013-41A7-B7C3-54A99511302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B97843-6028-41B4-B2C1-52A2C97FE52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1471FA4-B319-404C-9BAF-2479C7F980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A4A-D403-4105-8AD0-E3DEF0F4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829DE14-9D48-406D-9195-23F1A400D55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721F71-B999-44AA-92EF-0E3381323C9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451B95E-532B-4A88-B9B3-E3877FE177D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0EA05C6-FE47-412E-90CE-0A55B398709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6CD77F-E03F-4BBA-A60A-86166F3CA33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D61FEB5-B382-4860-BAB7-872C9000027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07B7E3-E5AD-45FC-B9FF-23D0626D528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BD51DD2-710F-426A-A94D-4627BA419CB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89E83F-DD56-4172-ADBD-1168725DF1E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332ECFA-7F1F-4F91-A442-36C7F6E9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025-001B-44D1-981F-5D8D07B0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EE9F5E4-4214-4E06-941C-26FC5916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23345BD-A45D-4B30-AA99-86AAA281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AC503C-EFC8-41BB-ADC5-5A5F371B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BAA4ECF-7A78-4787-A4AF-FAFA7474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90120B6-CFF0-4E9E-8739-A0E0ECCC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6BC6D2A-D2DA-464E-8B51-BD282C83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B1E348-6F86-4C95-A758-1CBC16F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1616B5-5787-43D9-8B2E-4D83D828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AB7886-E8F3-46A4-B035-422CFE48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C496EF2-A230-40B5-AFC2-99BB2325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A71-0AD0-40BC-A6E2-AAE37452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CC2FD5-7EEA-4D7A-B6F3-9FFAF0D5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D880215-E0AD-4C85-A4C3-F81EB270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F163E4-819B-45B2-916C-03DB0EB7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507408-245B-47AF-9BB5-83896CEC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55865BD-E107-4DBD-95D8-F44E160B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2D0485-EB58-48FA-82D7-857A61A9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9E87DB2-B9BB-4E6E-A138-7AE30A86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103ED6B-EE15-4B3B-9F10-DDB96DAE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695706-A8ED-49FB-9423-4542460C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C70200A-4B0E-4F00-82F1-9D9F094A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72A3-CC73-4F83-846F-573BA7DA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EBF990-DF0F-4D26-8FCB-065DB7AA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6725BCB-56E3-4EE8-880B-9FAD9272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A6E6DD-3DE6-408B-81D3-C4439B48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28F68E-D084-4136-BEA6-EFCF94EB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D49FC03-EAA7-4390-B5EB-2F23903F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AA9E6DA-C7D3-4096-8E38-C854CEF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72F1409-2C93-4694-8270-70A68D7A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7EBC37-DE65-4F1D-8401-18A6AC55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443B15E-4A01-4B2C-9B6B-DBC3DAAB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767091B-6E2E-437D-9B1E-97D537D1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791D-7957-4506-979E-3D9E9E29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2FE88B-B457-49C2-A5DE-1834FDDF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1B0714E-116A-45E0-83D0-FEA27218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C4B045D-A25B-4D76-906E-00685056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B963D29-D3EE-4B5F-9E84-67FB75045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4BBB82F-34EA-40C0-8E46-5330921E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64AFD9-6FF5-4AC6-B306-7A570FEF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7E60CC6-35E9-4AE0-B63F-35B38A6F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6D9E12-4F10-4129-BC42-320D18E0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B5CA93F-5DC2-4043-9B25-2E24A9F1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A190377-B246-42F9-8AF2-2F0D8551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0B98-830B-4ED3-940D-9F146F11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503EAE4-D7D0-47E4-8915-30272B3B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3F725D2-1749-44AD-A482-CA17BC03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3E2597A-6CEA-4BBD-ABFE-B6467A6F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9A2C8C6-5A7E-4F91-ABA6-845A1ADF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C097FC7-1DDD-4EEB-93CB-D286CB10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6505DA9-F233-4CD2-9923-3988101B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08B780D-74B2-4777-8D05-A2881354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FF47B18-02A9-4CC9-A8E2-073E09F4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D15C203-05B3-4149-BCD3-63346F0F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1E4FF655-6ECC-4484-820C-83F99CEE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A8F1-EA66-41F0-8C59-1E3508F9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ACD7EAA-AAD3-452B-99EF-170BDCCE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2432545-C251-43E9-A111-13D24869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61E99C6-5890-4351-A2FD-E75F1ADD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B90D214-2EB2-4AEF-BFB2-D8C93A41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CDB9883-F161-4840-8F4C-1546220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9DBEDA09-5D7B-4341-B8EC-CBFF3D12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496955F7-2E0D-4640-A798-A0EB6094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F7FFF2BF-0599-44A5-BF54-640AC1A2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B525B97E-1BAD-4841-A0C1-FD3EA3DA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D4D405B-E5E9-4A63-9613-558567B1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2907-CBDF-4E4A-831E-ABFE7ADB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E2B862B-45C3-4295-AC1F-A90BDBF2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5B5FEEE6-FEC5-4EDF-9829-DFEA6579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A32604E-441F-4684-8638-4958F458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E3797A1-EC52-4DF2-943C-EBD5CC8B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DB796F6-ED46-4E97-9878-6DDE6054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6FB014B-3989-4A35-A8A3-46659924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EC20C51-3961-41E8-B506-98817FE6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442FD8C-0548-4C14-BE2D-2BB149F1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A44BDD-D51E-43A4-AEB3-CA7ACFA2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BD42905-698E-45D0-9E14-09A82C69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6359-B70E-488F-BF68-6ACF5098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87F50A9-4CA3-48BA-90D0-F652B464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E0E9D6-02E4-4108-AD27-74B28832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5DEC908-6F4C-4F47-A580-C5753999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C3B8362-D86A-471E-94E4-00A90829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5D3B725-98E6-48F5-848F-5DD42846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0824765-CE8A-4914-981C-693FCE59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39ABA9B-1D1A-4C28-98B2-BA395541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05AD3F5-DA87-4652-AEE8-53CFA05D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708B861-9036-4A73-A364-FA12F2B1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C646649-C3D0-4BCE-8310-5DD84ABB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0B13-CA9A-4043-BC0D-2DF9D48E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CAA825-8A98-4C7C-A3CF-A2767050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4B2DEE8-29F7-454E-9FC7-D2713A871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F33E7DBF-7C1B-43FA-A705-72C55481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B0974EE-C87B-4FA4-96A3-214C96C3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3E9811F-ACC2-4025-8D39-A31D6023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8BDE6B8-55C6-49FB-B5BC-30C38B7D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FAC3D91-797E-4324-856B-EE995566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37F2D03-26CD-4BFB-B2AC-BA1D7CE5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1278FD-BD69-430E-8F96-03DEBC58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E69924C-FC87-4F11-B954-9AB328A7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B7B0-74CF-419B-B76D-90E333C1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CC68D42-5D04-4A1E-93E8-8775E1D4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7E1E816-857B-481F-98B4-EC4F37FE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97B19F9-97BD-4DB0-93E4-58AD21C1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0FE1E90-5169-4291-BA8F-246C1496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EA878E4-0E13-4B0D-9282-A1C3FF2C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1E9026F-6C8D-4678-BB25-2E73BF14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3B17772-79B8-46F0-81D0-92306525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03CD2B3-B2FD-4496-9B75-7560ED1E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9940495-D5DB-4F0B-B96E-49BDE45A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EE6BD9C-6F61-4CA1-8DCE-B149C26D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E880-4F76-40FA-9046-B95C4770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D321FD-83A8-4E00-BB4D-B1BB4A99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E4CDD7A-4B0C-49AF-BF6D-CA58B66B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B25A2CC-53E7-4DC0-BCDE-314B9F97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A9FE099-FCF2-45E3-B82A-89330148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4FA7278-70AC-43AE-B456-84DA3919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0A1A9CE-CE69-4933-B6D1-ADF4ABD6B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6EA6D8F-01B1-4C9C-A605-015FD24F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02E91B2-7201-4743-9037-8ED06CCF4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1C25CCE-0A47-496C-BB17-D9577FBA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23AF996-66E5-4247-90AB-FA79299E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9042-8733-4DBF-BD69-6A81C61B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CE8314-2632-4D64-82D1-AF582FB9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9EF4AB4-8DA7-4C0B-A4C9-9F0A5962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1A47E07-ED66-448F-BB6B-32CF3697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737FDE0-7FF1-487F-A270-CADCC841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C6CB8F5-3079-4500-BB98-1B680344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EA0D305-D5E2-43EF-8226-1D3C5E5F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BCEB133-56EA-4489-AF1C-82312B84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CEBDEE3-15C3-477D-B1F9-F47F5BFD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8B1662E-1D55-4837-A555-36A62DD6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42D04BB-8FB0-4051-9C1E-E7C08451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004F-928D-49EF-A412-EBA0BB63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ED7F2C9-2F80-4F2A-95CE-C5276BD9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565E13C-961F-44AA-BDBE-BFBF9AE0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B79CE70-917A-4506-85C1-CE232A62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2EC8C62-76F4-468D-B783-B6EEC2C0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21397BD-90E7-4B70-8ED9-7A74D397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55DF884-4466-4718-B64C-ACD29EC4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C6E1C9D-3E12-4399-896A-B3D4FF29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8FD0A18-579C-432C-80D3-469BD41A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9B6D431-D65B-4AE6-8619-85676A95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96A03AE5-353A-4D73-895E-6524F436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DA2F-5D51-4DAE-8383-047E6489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2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00C9ECF-F0AE-47BE-856A-69C3359A0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77FE43-9CCC-4711-BB0E-130484FD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0832A10-DC93-4B12-B723-DC6BA1A4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CBE914C-4E59-45DD-8C58-7903A7EE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2F20148-3D76-42B7-9BFC-ED398647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6F9A096-8000-489F-99A8-F41F191E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5ECA460-21A3-46EF-88ED-1781887E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54BE5DA-2B85-45EF-B00D-3CF0B58B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604E29A-2CC6-4870-8488-A3745250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94623B9-C40E-439B-8221-495430FF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883C-D460-4691-A903-CE4E0088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0A67EA1-9AD0-449F-9CDF-C5CFDEB9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7ED6570-A89E-48F2-A9FE-ECF30916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A21D34D-4CA6-4CEF-886D-FB930FBF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E7AC6E-7EA2-4775-B62F-99D32293095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56F759-2951-4CC2-9A26-E93FC591B76E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FE1C7E-AEB5-47A5-A61F-790D9598784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37E665-8CD5-43B2-95F6-B6CF780433A6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248642-A3A6-430C-8FC1-41AD66BE8621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3E469F-10F8-4722-850B-ABE757CA7A66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A5C86A-D8C5-498B-922E-7055AE7A87B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EAAB-E7EA-4C05-8A0B-57B0FC2B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269478-B7AD-4347-9350-10EEB23BF8B0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6E4D09-1F6E-40DC-BFC5-FC69EC9EF6CD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7D2A67-D9C5-4DE1-83DA-09BBC8005198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F1BAD91-477D-4801-8696-953546CCDDF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261873-C6D8-431E-87BA-8122F7286453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CA1B169-CD8E-49C4-9A98-87F99BE9DA1D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34F236D-C4F7-4BCC-AC90-DE678A4751C4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A1C854C-D2B9-4E5B-AC41-F9918598C956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FFAD20B-DB7F-4C85-B2A5-DDD9DBABDF3C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25E214F-1AD1-4494-AC30-3694181183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C6D7-A1AC-4626-AECE-1D1B36D1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99F1B2A-35CD-4A82-BF26-96986C9197CD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7AE552B-D3B1-4CDC-B51A-FDF34D248D2E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E492C61-BF5F-4283-A763-80A40E1FED32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18A7F02-038E-4AD3-AC56-26F11C453770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694E661-EC3D-46BB-963F-8803B3663FA8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787529D-78CB-476D-8418-09F176190882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4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5A3C6F4-B2AE-4754-9189-31E55AB8C984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5575E218-1548-49C4-932A-EED05C6F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9ED19C7-9733-49FF-8337-2A3C2779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EB3E84D-19F9-4A93-B91E-1AB8F42F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B2AFB-7643-4058-B257-FFDD51C7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6C2D947-17FD-4903-9712-CDEBE72A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B70BD34-6836-432F-96D0-47E127B5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73A312D-0DBA-4AE6-8701-E610A71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CEAEFDB-EB4D-4BA5-9A3F-164EFD7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FDE788E-46D8-4AA3-9559-38424317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4A3D7281-322F-455A-B4F4-FD734604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3641762-D1CE-4BAD-A11B-F8AF20B3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9A4BBB9-9180-47E0-8078-6B4C2426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8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9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D09B3D32-29CD-4A19-ABA9-97D23846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43BBB9D-7A08-4D47-B2A3-5867DD02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F2897-1CC5-417E-A978-73B109FB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478539C-ACBE-4FA5-8397-51B2D720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047F4AA-5069-445B-9C53-3B7DE943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5BDE3CF-A042-4C43-90C9-AA35E8FD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5D2A931-7FB7-4D36-8816-BB2598B6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F9A0E69-1E96-474D-BA76-387D8021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CEEE7A4-1BB5-4E90-A321-0264F712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76F8709-51BD-4B47-B743-499266AA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D25F5DB-F677-4F8A-84C4-5302F855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472D176-BA8D-4401-967F-12B748EF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BDA76D7-2DEC-4455-A937-71597C23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7A312-FF8D-4B17-9AD3-AFC48EE1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A031A65-F930-43F6-82F4-54272386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EB3F83F-8595-41E7-9691-200DAC4C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58C174B-147A-474D-A5F3-4AD1920B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96227D8-780F-40C2-9F20-6F33F807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6F44415-9CB5-4984-A50B-1209371A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8A4640E-F138-4E25-ADAF-3B49AB244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DC69D92-B819-433E-9DC1-F629F070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1774A82-AECD-4550-A86A-6CB6991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2F50394F-60AF-49EB-958A-BB94F1E0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0E20237-32B8-4D15-81D5-0FE09C89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9204-39C4-4C4E-ADDC-9C1FB8CF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5C50037-DF56-4DC1-9F6E-E6619CD4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0F8475C-2899-419C-B652-EEBF8067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7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07F1642-9076-4B51-8DC1-F693D5AE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9B589B2-CB4C-4B12-8301-728A96D2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B794D0A-C505-4ED1-97EB-2C5BECAA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1DEE1A6-C071-4624-91B0-2639AF9C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F5F9B0C-8109-443D-A9D5-469C2C7C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925FE67-DE98-447A-814C-9BA18732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A36E0AA-2C1A-4129-B3A2-FAE6BBD2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A386E76-D73A-4704-9DA3-D40BDEDF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6AB71-A9EF-4B1D-86EC-A9D3265B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D05E14F-40FE-4DC6-97D1-7C3ED53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B87E058-2553-42F7-AFBC-F9607A1B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C9ED16D-501F-4BA8-8B17-3A2DC816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A453CA2-0F91-41C7-830A-7932A8BB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0C0D159-928D-49A9-A027-3F1DDC31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486BF55-7141-4FDF-9CF2-2C4C53AF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5B2958A-03D1-4BE6-B75C-23BDAE76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FAF95DFE-EDC7-449A-9121-FE6C9488C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40E8BA0-0AF6-4BEA-BC6E-DEBCD79E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B93FCF5-3E9C-48E3-B328-C5CE1A78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060A-537F-4211-B626-05872486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CD40F9A-45FD-4EF4-B708-AF3922FC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867CB9B-664E-4512-A83D-8258A5FB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2A76E83-1E6B-40B1-9C63-77E35ED4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F1D6753-E76F-47B0-B03C-B0954CB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4E22C9F-E5FC-4B86-B87D-C3926A64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2ACF5E2-E4ED-4825-B6ED-7429C517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5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493C756-B7B9-412E-9A10-81FA09AD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09098D7-43C3-457D-88A6-CCEA6617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6509DAD-8D4A-4464-9AD3-7B109D85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0D04162-9484-4DA9-8FAE-4A555A01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F9851-41CF-47FB-B727-792ACA79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36DC85F-66F2-4A5F-982B-73A102BC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E5E0300-9BF6-4F4A-A1AD-B5D84A20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A923469-511D-41AB-B07B-81DA43A5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195827B-3D04-4DB4-B3AD-C8D19C82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25249DD-D362-42B8-8A66-B983A797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5E7F4AC-A238-45AA-A8E7-81B258ED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60190F6-A17C-4347-9191-17D2A31B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DC92143-90ED-4239-AECF-31DF4356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635501C-F248-436D-A22E-A9003634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5633E914-5002-40E8-805A-2849CDD8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A2931-BC81-48CA-A0B6-CAEFC8E8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1B6AD30-4144-480B-8BF3-7D60B718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1B4962E-A7AE-4231-A40A-3640BFF1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D3A6B8E-0382-4C5C-8E54-54665AEC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03C41D7B-4CF7-4317-AB59-E59803A1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5594A66-CCD4-4CD2-A7B7-6830E105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352BA7B-364F-4B34-ACC0-39914547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28446B4-2ECD-4951-88FE-7426FF4C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CE9ABB89-E274-4368-8E72-83329B3C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4767E3D-6ED9-4E34-8DEE-96B760BC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FC71B02-F2F6-42E2-86F5-B2CBB89FB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B094-22CE-439D-9A69-19B749A2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5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6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E28B9EF-CC3E-467B-91DD-C0268434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DA1AADE-D39F-481A-B618-AC38C57D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8C30BB3-7620-4DC5-90A6-D333C55C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03046DF-8F15-4138-BE72-920DBB3E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6FBB303-02FA-45CA-A3F3-CA161331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7635466-E28C-4231-9881-39DC67BA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B770402-253B-4A22-9BB3-AE19A187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0EBE060-0C95-429B-9FFA-0580BAE9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0C3B180-3FB9-4B60-BB52-42E58132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0574245-5EE4-4BE2-BA5A-94DDC8C2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3917A-9570-4CFF-BAC6-4A2BA61E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BC689D6-0084-4A46-8C40-1B67373F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FF97487-98AB-4C13-9402-11231E67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7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6D39F0B-B021-461E-8935-8E63328E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4658A64-A2D6-4B11-B95A-55C42EC9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F9CD71D-0E63-410E-AC4E-8BC98A8E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0EC9766-9A94-4F22-9B2D-0150D1C67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D500B55-24CD-46E6-AD0C-B92905A2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2A90570E-6CB0-400C-AB81-0F4C65AF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FBE875D-E1D7-4F9A-AAFB-742B6307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5D39FBA-4FC1-48BC-AA6F-E57C53BE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B60B-A147-4C1A-8586-CBAA2D6E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E3985F8C-5798-49C6-A0EE-F94D28A7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49533DA-8DA2-49C2-A635-DCC6641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44CB097-0D34-42CC-890B-266996BC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8282B71-CAF7-4217-819C-FFC24A6E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0BBA31B-44BB-4550-BCB3-14D96E61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5CE974E-93EB-4D47-8330-D4F1F58DC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10E73FC-47B9-4C90-8C55-7A2D8FA5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0CD0D6F-1CD3-4F52-9D80-22810E57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B605BEF-4504-43FE-BB15-7CF89AA7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BF47AB6-A8B5-45DD-9853-5155B277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C58F-E05C-44F2-8F7F-DA1765EC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A037DBB-5C17-45FF-87D6-9B3A410A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C78CB786-89B7-4017-9A38-44738B20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253DBCF-104D-4D10-8CF4-377F0237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9528946-7045-4782-913A-BB25A563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101FAB0-29FD-418D-BC30-8BA5670F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646BCD47-4345-42E3-94DB-0ECF40DA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04D8B0C-1724-4FD4-B9DE-9D7966D7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A1B52592-C66D-4EF2-83CE-FFA1B202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5338C07-AFB8-4456-8DD8-EF93F7CC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3E514F7-5C43-4D92-BB92-23B0F4AA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B6637-F070-4A46-83A9-23C0DBD1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FDF22037-CA92-43E3-B50A-796FAD78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4813CCC4-D29F-4118-B485-F389442A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AD95EC4-AABA-437B-B148-854FA4A2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628E0A2-25A3-4CFF-866C-E80FBB13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44463F3-0A9E-4B6D-8906-AC3FA14C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CCF333D-78EF-457C-9E3D-958E7D78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5B728C0-E8C1-4DBD-9158-B5D56AC8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5DAB58F-9B8C-4ED6-BC78-EC896515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9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0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EEF2F76-3326-4D0F-882D-11C3A16D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5ACD6480-F6AA-4776-B7AE-D4D5BCFC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AB245-8894-4999-AA71-4B5144FD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FE8859F-7688-4C27-A8ED-845657EB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8539C3F4-3A79-467B-9251-1B1A9CB5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4A1A7B0-E873-4A52-8CD3-5378B803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FEE0847-3594-479D-9A1E-4FBB89A9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CF63E41-905C-4D5C-A4EA-55EA0DEE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0408ED7C-3723-4FDA-94F5-177D2102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87F9BCF-22B8-401A-8235-3223CB20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A8B22FD-95AB-4A2F-BEEE-B70CEC80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8A1C238-B897-4756-94E1-1D17EFFD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8220C2E-B62B-4974-980F-BD1E6F00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CF963-7F37-479D-9054-68F20777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0DD29CD-2E76-4A53-B58D-14AA7A1B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C4752624-F4B1-4B02-9262-46FDF9058600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13F99A34-81FA-4C14-8FB6-459498110D4E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024DAD6-30A6-42A8-8DE1-906B56418B8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E17654D7-4C35-4D94-9E92-BBBA5A6DF230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60291E7-7478-464D-860F-48DD8CE5285E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74F539F-04D3-48C0-90C5-7AB0BF3E4EA2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9348E198-8E28-431C-98C4-44203E004C18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84325CBD-78ED-4D39-B7F5-FE06A2F76064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08E74B1-2616-45BB-B037-0C262BB0027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2C9E8-08B6-4466-9309-110A47A6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AFEE22A-E88B-4408-8233-99EA09BD73F8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3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846FF8F-81EA-487A-A276-6596C4C9E02E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79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80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36911194-5607-454D-859C-48C77BCBC159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30E073-708E-43DC-AF0C-33A196B0A639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21C2272-0431-4544-A689-51270CF6B0D7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96C0912-4466-4EEC-949A-D9A9ECF17680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84A4488-D95A-45F0-AE6B-842CF0C6F2CC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B60F84E-B816-4366-B69F-15FFC2B743E0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AD4B982-6D7D-47EF-9A72-FE1804FA24AF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1F5AC6-45DC-461B-8FBE-F7F7953698E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D1E7-6BE8-462B-A6DB-6A45439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25F1EC-5F53-49A6-ACB3-C67FEE09620B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613E097-EED3-453C-B7E7-C89079035596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820239-96CF-407E-81F9-B1BED5ABEDD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F1C5095-8E9C-419F-8D1D-7BB082F59BE8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D234095-CFB2-48DA-AF38-15510F06CA6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ABA7A-03EE-4B6A-9814-5042C0C1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69C6B-1126-4C56-A4B7-4A37CC80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D061D-B9F7-4EED-AD3F-978552B1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A498F-E1DF-47A1-B86B-4435A6B0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AB628-B73B-4904-8352-24A0452F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E5B98-ECD4-47E9-A795-657BEBD4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16099-FFED-4146-916A-10232FAE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5ADFE-26E9-496C-BF65-7988D5B7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3A2B-F146-4234-83EF-DE488F69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0A5D1-ABDA-4F53-BD79-F81E7FA3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99A95-BD56-4114-9C38-5AAE0F38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83363-35AB-498C-AEF5-EAA3C533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D7676-26C7-4CC3-8DFD-996D7F11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153A7-E6AC-4D48-93F3-F2BFAABB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72B05-CFBD-4C51-8121-9F2042EC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09C54-B33A-4D18-BDB5-B299240B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D1BB7-B53D-4176-9EC6-90A67046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83E10-1C5E-471D-827A-EB47A442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514C5-3C7D-42E3-9B65-22878FB8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10603-A063-48DC-9344-85FB2D4D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C0961-0701-488B-8C8C-9773D82E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49684-3E18-4DBE-89C5-3FED8D92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BA566-AFA9-4131-8D60-03D3324B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EBD3A-34CE-4F56-B06F-7F655E1E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47C7F-1CCF-4726-A5E5-FFE8FD23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B21DD-7ABA-4298-8CEA-06FB10EB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27F4B-2DC8-4580-BD98-6465B8C7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07B8-E4A0-4ABF-BE1B-6EFF5BBD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39AE7-57E2-452C-9FFC-046E09E2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C1D01-FB63-42A5-B35C-CC57C0D4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D4264-DD68-426C-AB05-9FCF801B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4C44A-433D-438E-90B1-443703D4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94A87-E42C-4C0A-B8FF-D514CC26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03FE0-37AF-4991-9D53-08B9E951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877E5-B06A-4334-82E2-D923E982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BB4EC-2419-435E-B521-A9B03D45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162FA-743E-41AD-A77F-BF146C1C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47506-5B4A-4A45-B9C7-AAC19798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02BE8-B123-499C-848C-DAC27EDA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B5D3F-57D4-4614-B67A-EC275A29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F3758-A6DE-48A0-8695-7DEFA1185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E7A3F-0922-4595-8992-27B165EF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8123D-231E-4952-BC8F-774F17E4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2267-E74D-4401-9AB3-AF56BDEF1CF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E1E5-C49A-4F65-A9CF-C304992BA88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EF8F-6025-4C6E-91B2-2639C1FF76A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11B5-C6E8-4C5D-A2EE-4D26654C7D9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17B0-A665-45CE-BB1D-D65EC626514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8A73-455D-4EBB-80E5-CDE0C389F47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B6B6-0552-42A7-A04E-F338A0949C4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14DD-FFFD-4354-AFE1-4E987C84444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4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76D6-27AF-491B-A79F-4D0BE3E51DC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735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6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sldNum" idx="5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FE0A-3C06-44F2-AD4D-E58D3A7A198E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97CF-F024-46CB-8F39-5C90F367260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1FC4-A64B-4E87-85C4-F419C4822BC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5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44D2-C119-4E21-A36C-B3C227297EC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5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A3FF-CAD5-4CB4-8DAC-C30D5AE09F4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E9CE-500F-4B7D-9076-752ABFAB789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C5D7-2932-47BD-89CA-7A7071DFC78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2D94-08D9-4C2E-A2FF-69138AA3311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6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7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7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8F1C-5DA5-45B5-A6AA-B7E744F8F90B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 type="dt" idx="7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 type="ftr" idx="7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 type="sldNum" idx="7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3F0D-BD51-4CA5-9A5B-3635127CDE7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dt" idx="7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ftr" idx="7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 type="sldNum" idx="7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D890-6842-46C8-BB07-0FA28EF3B93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8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57BA-9E2D-4267-ADC2-F0199824DD2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49CA-8173-49F0-BBA4-B72AA060ECE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dt" idx="8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ftr" idx="8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 type="sldNum" idx="8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5010-5FBB-4B7B-9781-12B446F31C5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 type="dt" idx="8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 type="ftr" idx="8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 type="sldNum" idx="8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453C-AB7A-45BE-A3D2-0B273C404F6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FC77-8679-48E6-9441-E30480BF209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8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1309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0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 type="sldNum" idx="8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7AA1-2767-4273-AF5F-95FEF7CCFC6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dt" idx="8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 type="ftr" idx="9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 type="sldNum" idx="9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E75F-4021-4CD8-879C-7DD7BE600C8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E035-7773-4A41-B580-BD53B85B44A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 type="dt" idx="9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 type="ftr" idx="9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 type="sldNum" idx="9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0213-9317-43F2-9106-1D69C55013F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 type="dt" idx="9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 type="ftr" idx="9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 type="sldNum" idx="10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FA92-F8F9-4D9B-A23E-F9DBF348663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 type="dt" idx="10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 type="ftr" idx="10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 type="sldNum" idx="10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17EF-9CA0-420B-8C52-1F499F08BDE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 type="dt" idx="10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 type="ftr" idx="10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 type="sldNum" idx="10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6970-351F-43FB-A85F-761E4D59AAB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0EA7-6522-4B8F-8EDB-F00B444D6A1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 type="dt" idx="10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 type="ftr" idx="10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 type="sldNum" idx="10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8FBE-9971-49FF-ABF8-76E4536E588F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 type="dt" idx="1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 type="ftr" idx="1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 type="sldNum" idx="1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77C0-4D8B-44BE-8379-4F95663C1D4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D888-3542-4E0C-8940-15990FE85C33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1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1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1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865B-3743-4C21-BDD7-A85B6EE77A6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 type="dt" idx="1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 type="ftr" idx="1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 type="sldNum" idx="1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B16A-F42C-4F36-96D4-6D5779828A09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7C48-41EB-4606-82BF-7A85B8EC7371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sldNum" idx="12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19DD-D54B-43BD-9E92-B7729D2765E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Фигура"/>
          <p:cNvSpPr/>
          <p:nvPr/>
        </p:nvSpPr>
        <p:spPr>
          <a:xfrm rot="10800000">
            <a:off x="131760" y="5908680"/>
            <a:ext cx="571680" cy="76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0" y="3980"/>
                </a:lnTo>
                <a:lnTo>
                  <a:pt x="17620" y="3980"/>
                </a:lnTo>
                <a:lnTo>
                  <a:pt x="17620" y="21600"/>
                </a:lnTo>
                <a:lnTo>
                  <a:pt x="216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2" name="Группа"/>
          <p:cNvGrpSpPr/>
          <p:nvPr/>
        </p:nvGrpSpPr>
        <p:grpSpPr>
          <a:xfrm>
            <a:off x="7837560" y="-23760"/>
            <a:ext cx="1122120" cy="1193760"/>
            <a:chOff x="7837560" y="-23760"/>
            <a:chExt cx="1122120" cy="1193760"/>
          </a:xfrm>
        </p:grpSpPr>
        <p:sp>
          <p:nvSpPr>
            <p:cNvPr id="1883" name="Прямоугольник"/>
            <p:cNvSpPr/>
            <p:nvPr/>
          </p:nvSpPr>
          <p:spPr>
            <a:xfrm>
              <a:off x="8058240" y="-23760"/>
              <a:ext cx="680760" cy="1057320"/>
            </a:xfrm>
            <a:prstGeom prst="rect">
              <a:avLst/>
            </a:prstGeom>
            <a:solidFill>
              <a:srgbClr val="cc23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logo.png" descr="logo.png"/>
            <p:cNvPicPr/>
            <p:nvPr/>
          </p:nvPicPr>
          <p:blipFill>
            <a:blip r:embed="rId3"/>
            <a:srcRect l="0" t="0" r="0" b="23438"/>
            <a:stretch/>
          </p:blipFill>
          <p:spPr>
            <a:xfrm>
              <a:off x="7837560" y="335520"/>
              <a:ext cx="1122120" cy="83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sldNum" idx="12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C222-689B-4563-BADE-A5BDF83CF798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1547280" y="6237000"/>
            <a:ext cx="242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140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7380000" y="6244920"/>
            <a:ext cx="130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30C5-1FC8-4017-A9B1-DDD07E0E144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E90A-FD22-4B78-AAB9-368290AC9070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5FE9-E11E-40CF-B652-C7850A46813A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6BF7-AE5E-4B0A-91E6-49111A9A5C0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3CBF-805F-49FF-86C5-038992058FA4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ge.edu.ru/ru/main/schedule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hyperlink" Target="http://www.ege.edu.ru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4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image" Target="../media/image37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0" y="297000"/>
            <a:ext cx="9144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204da"/>
                </a:solidFill>
                <a:latin typeface="Arial"/>
              </a:rPr>
              <a:t>Федеральный закон от 29.12.2012 № 273-ФЗ «Об образовании в Российской Федерации</a:t>
            </a:r>
            <a:r>
              <a:rPr b="0" lang="ru-RU" sz="3200" spc="-1" strike="noStrike">
                <a:solidFill>
                  <a:srgbClr val="3204da"/>
                </a:solidFill>
                <a:latin typeface="Cassandra"/>
              </a:rPr>
              <a:t>»</a:t>
            </a:r>
            <a:endParaRPr b="0" lang="en-US" sz="32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2" name=""/>
          <p:cNvSpPr txBox="1"/>
          <p:nvPr/>
        </p:nvSpPr>
        <p:spPr>
          <a:xfrm>
            <a:off x="287280" y="1665000"/>
            <a:ext cx="853272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Arial"/>
              </a:rPr>
              <a:t>Государственная итоговая аттестация является обязательной и проводится в форме и порядке, определяемых Федеральным органом исполнительной власти</a:t>
            </a:r>
            <a:endParaRPr b="0" lang="en-US" sz="4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452a"/>
                </a:solidFill>
                <a:latin typeface="Cassandra"/>
              </a:rPr>
              <a:t>Правила и процедура проведения ЕГЭ,ОГЭ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323640" y="1484280"/>
            <a:ext cx="8530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ЕГЭ и ОГЭ проводится в специальных пунктах проведения экзамена (ППЭ)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a452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ППЭ выпускников сопровождают уполномоченные представители от образовательного учреждения, в котором они обучаются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51" name="Прямоугольник 3"/>
          <p:cNvSpPr/>
          <p:nvPr/>
        </p:nvSpPr>
        <p:spPr>
          <a:xfrm>
            <a:off x="324000" y="4365720"/>
            <a:ext cx="864072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ГЭ и ОГЭ начинается в 10:00 по местному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136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начала и окончания экзамена фиксируется на до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2" name="Прямоугольник 21"/>
          <p:cNvGrpSpPr/>
          <p:nvPr/>
        </p:nvGrpSpPr>
        <p:grpSpPr>
          <a:xfrm>
            <a:off x="-6480" y="6431040"/>
            <a:ext cx="9163080" cy="439560"/>
            <a:chOff x="-6480" y="6431040"/>
            <a:chExt cx="9163080" cy="439560"/>
          </a:xfrm>
        </p:grpSpPr>
        <p:pic>
          <p:nvPicPr>
            <p:cNvPr id="1953" name="Прямоугольник 21" descr=""/>
            <p:cNvPicPr/>
            <p:nvPr/>
          </p:nvPicPr>
          <p:blipFill>
            <a:blip r:embed="rId1"/>
            <a:stretch/>
          </p:blipFill>
          <p:spPr>
            <a:xfrm>
              <a:off x="-6480" y="6431040"/>
              <a:ext cx="9163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4" name=""/>
            <p:cNvSpPr/>
            <p:nvPr/>
          </p:nvSpPr>
          <p:spPr>
            <a:xfrm>
              <a:off x="0" y="6435720"/>
              <a:ext cx="9144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Прямоугольник 22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1956" name="Прямоугольник 2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7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Пришли на экзамен. Что необходимо иметь при себе и можно взять с собой?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59" name="Прямоугольник 6"/>
          <p:cNvSpPr/>
          <p:nvPr/>
        </p:nvSpPr>
        <p:spPr>
          <a:xfrm>
            <a:off x="324000" y="836640"/>
            <a:ext cx="3240000" cy="9169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, удостоверяющий личность (паспо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Прямоугольник 10"/>
          <p:cNvSpPr/>
          <p:nvPr/>
        </p:nvSpPr>
        <p:spPr>
          <a:xfrm>
            <a:off x="5742360" y="971640"/>
            <a:ext cx="2620080" cy="6426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необходим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арство и 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Picture 10" descr="D:\!МолодыеТихоновы-Е.В\!Работа-сделать\РЦОИ\1088102-3d-Teeny-White-Person-Carrying-A-Ruler.jpg"/>
          <p:cNvPicPr/>
          <p:nvPr/>
        </p:nvPicPr>
        <p:blipFill>
          <a:blip r:embed="rId3"/>
          <a:srcRect l="0" t="0" r="0" b="12916"/>
          <a:stretch/>
        </p:blipFill>
        <p:spPr>
          <a:xfrm>
            <a:off x="1692360" y="3578400"/>
            <a:ext cx="1439640" cy="111096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1" descr="D:\!МолодыеТихоновы-Е.В\!Работа-сделать\РЦОИ\1087621-3d-Teeny-White-Person-Writing-With-A-Pen.jpg"/>
          <p:cNvPicPr/>
          <p:nvPr/>
        </p:nvPicPr>
        <p:blipFill>
          <a:blip r:embed="rId4"/>
          <a:srcRect l="0" t="0" r="14258" b="0"/>
          <a:stretch/>
        </p:blipFill>
        <p:spPr>
          <a:xfrm>
            <a:off x="4103640" y="674640"/>
            <a:ext cx="1013040" cy="133344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2" descr="D:\!МолодыеТихоновы-Е.В\!Работа-сделать\РЦОИ\1088070-3d-Teeny-White-Person-Holding-A-Calculator-In-Front-Of-His-Face.jpg"/>
          <p:cNvPicPr/>
          <p:nvPr/>
        </p:nvPicPr>
        <p:blipFill>
          <a:blip r:embed="rId5"/>
          <a:srcRect l="0" t="0" r="16688" b="0"/>
          <a:stretch/>
        </p:blipFill>
        <p:spPr>
          <a:xfrm>
            <a:off x="6064200" y="3284640"/>
            <a:ext cx="1063800" cy="1439640"/>
          </a:xfrm>
          <a:prstGeom prst="rect">
            <a:avLst/>
          </a:prstGeom>
          <a:ln w="0">
            <a:noFill/>
          </a:ln>
        </p:spPr>
      </p:pic>
      <p:sp>
        <p:nvSpPr>
          <p:cNvPr id="1964" name="Прямоугольник 27"/>
          <p:cNvSpPr/>
          <p:nvPr/>
        </p:nvSpPr>
        <p:spPr>
          <a:xfrm>
            <a:off x="3348000" y="2008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ную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елеву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у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Прямоугольник 29"/>
          <p:cNvSpPr/>
          <p:nvPr/>
        </p:nvSpPr>
        <p:spPr>
          <a:xfrm>
            <a:off x="1476360" y="274788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, которые можно использовать на ЕГЭ по отдельным предме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Прямоугольник 15"/>
          <p:cNvSpPr/>
          <p:nvPr/>
        </p:nvSpPr>
        <p:spPr>
          <a:xfrm>
            <a:off x="1258920" y="597528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, транспортир,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Прямоугольник 16"/>
          <p:cNvSpPr/>
          <p:nvPr/>
        </p:nvSpPr>
        <p:spPr>
          <a:xfrm>
            <a:off x="1258920" y="478800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Прямоугольник 17"/>
          <p:cNvSpPr/>
          <p:nvPr/>
        </p:nvSpPr>
        <p:spPr>
          <a:xfrm>
            <a:off x="1258920" y="51832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инейка и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Прямоугольник 18"/>
          <p:cNvSpPr/>
          <p:nvPr/>
        </p:nvSpPr>
        <p:spPr>
          <a:xfrm>
            <a:off x="1258920" y="5580000"/>
            <a:ext cx="47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епрограммируемый калькуля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0" name="Picture 4" descr="X:\11_Тихонов\2012\презент2012\221974-3d-Teeny-Person-With-A-Check-Mark-2.jpg"/>
          <p:cNvPicPr/>
          <p:nvPr/>
        </p:nvPicPr>
        <p:blipFill>
          <a:blip r:embed="rId6"/>
          <a:srcRect l="0" t="0" r="0" b="22349"/>
          <a:stretch/>
        </p:blipFill>
        <p:spPr>
          <a:xfrm>
            <a:off x="539640" y="487368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4" descr="X:\11_Тихонов\2012\презент2012\221974-3d-Teeny-Person-With-A-Check-Mark-2.jpg"/>
          <p:cNvPicPr/>
          <p:nvPr/>
        </p:nvPicPr>
        <p:blipFill>
          <a:blip r:embed="rId7"/>
          <a:srcRect l="0" t="0" r="0" b="22349"/>
          <a:stretch/>
        </p:blipFill>
        <p:spPr>
          <a:xfrm>
            <a:off x="539640" y="527364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X:\11_Тихонов\2012\презент2012\221974-3d-Teeny-Person-With-A-Check-Mark-2.jpg"/>
          <p:cNvPicPr/>
          <p:nvPr/>
        </p:nvPicPr>
        <p:blipFill>
          <a:blip r:embed="rId8"/>
          <a:srcRect l="0" t="0" r="0" b="22349"/>
          <a:stretch/>
        </p:blipFill>
        <p:spPr>
          <a:xfrm>
            <a:off x="539640" y="5661000"/>
            <a:ext cx="360360" cy="24768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4" descr="X:\11_Тихонов\2012\презент2012\221974-3d-Teeny-Person-With-A-Check-Mark-2.jpg"/>
          <p:cNvPicPr/>
          <p:nvPr/>
        </p:nvPicPr>
        <p:blipFill>
          <a:blip r:embed="rId9"/>
          <a:srcRect l="0" t="0" r="0" b="22349"/>
          <a:stretch/>
        </p:blipFill>
        <p:spPr>
          <a:xfrm>
            <a:off x="539640" y="6058080"/>
            <a:ext cx="360360" cy="24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708 0.23657 L 1.66667E-006 0.02014 E">
                                      <p:cBhvr>
                                        <p:cTn id="11" dur="1000" fill="hold"/>
                                        <p:tgtEl>
                                          <p:spTgt spid="1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11 0.25671 L -0.01927 0.01666 E">
                                      <p:cBhvr>
                                        <p:cTn id="19" dur="1000" fill="hold"/>
                                        <p:tgtEl>
                                          <p:spTgt spid="1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9 класс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7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Математика – линейка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Физика, химия – непрограммируемый калькулятор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Биология, география – линейка, непрограммируемый калькулятор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6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1977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8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9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198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1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83" name="TextBox 6"/>
          <p:cNvSpPr/>
          <p:nvPr/>
        </p:nvSpPr>
        <p:spPr>
          <a:xfrm>
            <a:off x="395280" y="692280"/>
            <a:ext cx="8064360" cy="36828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запрещ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TextBox 10"/>
          <p:cNvSpPr/>
          <p:nvPr/>
        </p:nvSpPr>
        <p:spPr>
          <a:xfrm>
            <a:off x="298440" y="3716280"/>
            <a:ext cx="84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ься иными предметами или средствами, не допущенными Рособрнадзором к использованию в ППЭ во время экзамена, не только в аудитории, но и во всем ПП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Box 6"/>
          <p:cNvSpPr/>
          <p:nvPr/>
        </p:nvSpPr>
        <p:spPr>
          <a:xfrm>
            <a:off x="298440" y="1076400"/>
            <a:ext cx="26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говариваться, меняться местами, любыми материалами и предм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6" name="Группа 1"/>
          <p:cNvGrpSpPr/>
          <p:nvPr/>
        </p:nvGrpSpPr>
        <p:grpSpPr>
          <a:xfrm>
            <a:off x="3780000" y="1989000"/>
            <a:ext cx="1052280" cy="1379520"/>
            <a:chOff x="3780000" y="1989000"/>
            <a:chExt cx="1052280" cy="1379520"/>
          </a:xfrm>
        </p:grpSpPr>
        <p:pic>
          <p:nvPicPr>
            <p:cNvPr id="1987" name="Picture 12" descr="D:\!МолодыеТихоновы-Е.В\!Работа-сделать\РЦОИ\1088118-Clipart-3d-Teeny-White-Person-Talking-On-Two-Phones-Royalty-Free-CGI-Illustration.jpg"/>
            <p:cNvPicPr/>
            <p:nvPr/>
          </p:nvPicPr>
          <p:blipFill>
            <a:blip r:embed="rId3"/>
            <a:srcRect l="0" t="0" r="5591" b="1573"/>
            <a:stretch/>
          </p:blipFill>
          <p:spPr>
            <a:xfrm>
              <a:off x="3780000" y="1989000"/>
              <a:ext cx="1052280" cy="13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8" name="Picture 10" descr="D:\!МолодыеТихоновы-Е.В\!Работа-сделать\РЦОИ\17693_732062542_medium.jpg"/>
            <p:cNvPicPr/>
            <p:nvPr/>
          </p:nvPicPr>
          <p:blipFill>
            <a:blip r:embed="rId4"/>
            <a:stretch/>
          </p:blipFill>
          <p:spPr>
            <a:xfrm>
              <a:off x="3980520" y="2035800"/>
              <a:ext cx="61560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9" name="Picture 11" descr="D:\!МолодыеТихоновы-Е.В\!Работа-сделать\РЦОИ\pinac2.jpg"/>
          <p:cNvPicPr/>
          <p:nvPr/>
        </p:nvPicPr>
        <p:blipFill>
          <a:blip r:embed="rId5"/>
          <a:stretch/>
        </p:blipFill>
        <p:spPr>
          <a:xfrm>
            <a:off x="5364000" y="1878120"/>
            <a:ext cx="1128960" cy="112068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14" descr="D:\!МолодыеТихоновы-Е.В\!Работа-сделать\РЦОИ\223007-3d-Teeny-Person-Thinking-Over-A-Prohibited-Sign.jpg"/>
          <p:cNvPicPr/>
          <p:nvPr/>
        </p:nvPicPr>
        <p:blipFill>
          <a:blip r:embed="rId6"/>
          <a:srcRect l="0" t="0" r="0" b="10005"/>
          <a:stretch/>
        </p:blipFill>
        <p:spPr>
          <a:xfrm>
            <a:off x="900000" y="2284560"/>
            <a:ext cx="1368360" cy="1396800"/>
          </a:xfrm>
          <a:prstGeom prst="rect">
            <a:avLst/>
          </a:prstGeom>
          <a:ln w="0">
            <a:noFill/>
          </a:ln>
        </p:spPr>
      </p:pic>
      <p:sp>
        <p:nvSpPr>
          <p:cNvPr id="1991" name="TextBox 6"/>
          <p:cNvSpPr/>
          <p:nvPr/>
        </p:nvSpPr>
        <p:spPr>
          <a:xfrm>
            <a:off x="3125880" y="1069920"/>
            <a:ext cx="238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обильную и иную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TextBox 6"/>
          <p:cNvSpPr/>
          <p:nvPr/>
        </p:nvSpPr>
        <p:spPr>
          <a:xfrm>
            <a:off x="5861160" y="1052640"/>
            <a:ext cx="238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ти фото и видео съемку, звуко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3" name="Группа 33"/>
          <p:cNvGrpSpPr/>
          <p:nvPr/>
        </p:nvGrpSpPr>
        <p:grpSpPr>
          <a:xfrm>
            <a:off x="7723080" y="1916280"/>
            <a:ext cx="1062000" cy="1120680"/>
            <a:chOff x="7723080" y="1916280"/>
            <a:chExt cx="1062000" cy="1120680"/>
          </a:xfrm>
        </p:grpSpPr>
        <p:pic>
          <p:nvPicPr>
            <p:cNvPr id="1994" name="Picture 13" descr="D:\!МолодыеТихоновы-Е.В\!Работа-сделать\РЦОИ\1088009-3d-Teeny-White-Person-Camera-Man.jpg"/>
            <p:cNvPicPr/>
            <p:nvPr/>
          </p:nvPicPr>
          <p:blipFill>
            <a:blip r:embed="rId7"/>
            <a:srcRect l="0" t="0" r="4743" b="13523"/>
            <a:stretch/>
          </p:blipFill>
          <p:spPr>
            <a:xfrm>
              <a:off x="7732800" y="1916280"/>
              <a:ext cx="1052280" cy="112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5" name="Группа 6"/>
            <p:cNvGrpSpPr/>
            <p:nvPr/>
          </p:nvGrpSpPr>
          <p:grpSpPr>
            <a:xfrm>
              <a:off x="7723080" y="1937520"/>
              <a:ext cx="1028520" cy="1010160"/>
              <a:chOff x="7723080" y="1937520"/>
              <a:chExt cx="1028520" cy="1010160"/>
            </a:xfrm>
          </p:grpSpPr>
          <p:sp>
            <p:nvSpPr>
              <p:cNvPr id="1996" name="Овал 2"/>
              <p:cNvSpPr/>
              <p:nvPr/>
            </p:nvSpPr>
            <p:spPr>
              <a:xfrm>
                <a:off x="7723080" y="1937520"/>
                <a:ext cx="1028520" cy="1010160"/>
              </a:xfrm>
              <a:prstGeom prst="ellipse">
                <a:avLst/>
              </a:prstGeom>
              <a:noFill/>
              <a:ln w="88920">
                <a:solidFill>
                  <a:srgbClr val="ff0000">
                    <a:alpha val="9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Прямая соединительная линия 4"/>
              <p:cNvSpPr/>
              <p:nvPr/>
            </p:nvSpPr>
            <p:spPr>
              <a:xfrm>
                <a:off x="7873560" y="2084760"/>
                <a:ext cx="727200" cy="71532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8" name="Прямая соединительная линия 12"/>
          <p:cNvSpPr/>
          <p:nvPr/>
        </p:nvSpPr>
        <p:spPr>
          <a:xfrm>
            <a:off x="515880" y="458136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9" name="Picture 16" descr="D:\!МолодыеТихоновы-Е.В\!Работа-сделать\РЦОИ\1088106-3d-Teeny-White-Person-Going-To-The-Restroom.jpg"/>
          <p:cNvPicPr/>
          <p:nvPr/>
        </p:nvPicPr>
        <p:blipFill>
          <a:blip r:embed="rId8"/>
          <a:srcRect l="0" t="0" r="0" b="10288"/>
          <a:stretch/>
        </p:blipFill>
        <p:spPr>
          <a:xfrm>
            <a:off x="2519280" y="4761000"/>
            <a:ext cx="828720" cy="842760"/>
          </a:xfrm>
          <a:prstGeom prst="rect">
            <a:avLst/>
          </a:prstGeom>
          <a:ln w="0">
            <a:noFill/>
          </a:ln>
        </p:spPr>
      </p:pic>
      <p:sp>
        <p:nvSpPr>
          <p:cNvPr id="2000" name="Прямоугольник 28"/>
          <p:cNvSpPr/>
          <p:nvPr/>
        </p:nvSpPr>
        <p:spPr>
          <a:xfrm>
            <a:off x="395280" y="692280"/>
            <a:ext cx="8064360" cy="36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Группа 32"/>
          <p:cNvGrpSpPr/>
          <p:nvPr/>
        </p:nvGrpSpPr>
        <p:grpSpPr>
          <a:xfrm>
            <a:off x="6561000" y="2643120"/>
            <a:ext cx="1028880" cy="1079640"/>
            <a:chOff x="6561000" y="2643120"/>
            <a:chExt cx="1028880" cy="1079640"/>
          </a:xfrm>
        </p:grpSpPr>
        <p:pic>
          <p:nvPicPr>
            <p:cNvPr id="2002" name="Picture 2" descr="X:\11_Тихонов\2012\презент2012\221960-3d-Teeny-Person-Using-A-Microphone-1.jpg"/>
            <p:cNvPicPr/>
            <p:nvPr/>
          </p:nvPicPr>
          <p:blipFill>
            <a:blip r:embed="rId9"/>
            <a:srcRect l="0" t="0" r="12020" b="0"/>
            <a:stretch/>
          </p:blipFill>
          <p:spPr>
            <a:xfrm>
              <a:off x="6660000" y="2692080"/>
              <a:ext cx="804960" cy="1030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3" name="Группа 6"/>
            <p:cNvGrpSpPr/>
            <p:nvPr/>
          </p:nvGrpSpPr>
          <p:grpSpPr>
            <a:xfrm>
              <a:off x="6561000" y="2643120"/>
              <a:ext cx="1028880" cy="1009800"/>
              <a:chOff x="6561000" y="2643120"/>
              <a:chExt cx="1028880" cy="1009800"/>
            </a:xfrm>
          </p:grpSpPr>
          <p:sp>
            <p:nvSpPr>
              <p:cNvPr id="2004" name="Овал 30"/>
              <p:cNvSpPr/>
              <p:nvPr/>
            </p:nvSpPr>
            <p:spPr>
              <a:xfrm>
                <a:off x="6561000" y="2643120"/>
                <a:ext cx="1028880" cy="1009800"/>
              </a:xfrm>
              <a:prstGeom prst="ellipse">
                <a:avLst/>
              </a:prstGeom>
              <a:noFill/>
              <a:ln w="88920">
                <a:solidFill>
                  <a:srgbClr val="ff0000">
                    <a:alpha val="9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Прямая соединительная линия 31"/>
              <p:cNvSpPr/>
              <p:nvPr/>
            </p:nvSpPr>
            <p:spPr>
              <a:xfrm>
                <a:off x="6711840" y="2790720"/>
                <a:ext cx="727200" cy="714600"/>
              </a:xfrm>
              <a:prstGeom prst="line">
                <a:avLst/>
              </a:prstGeom>
              <a:ln w="88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06" name="Picture 3" descr="X:\11_Тихонов\2012\презент2012\1087780-3d-Teeny-White-Paramedics-Loading-A-Person-Into-An-Ambulance.jpg"/>
          <p:cNvPicPr/>
          <p:nvPr/>
        </p:nvPicPr>
        <p:blipFill>
          <a:blip r:embed="rId10"/>
          <a:srcRect l="0" t="4795" r="1682" b="11360"/>
          <a:stretch/>
        </p:blipFill>
        <p:spPr>
          <a:xfrm>
            <a:off x="539640" y="4640400"/>
            <a:ext cx="1440000" cy="1087200"/>
          </a:xfrm>
          <a:prstGeom prst="rect">
            <a:avLst/>
          </a:prstGeom>
          <a:ln w="0">
            <a:noFill/>
          </a:ln>
        </p:spPr>
      </p:pic>
      <p:sp>
        <p:nvSpPr>
          <p:cNvPr id="2007" name="TextBox 7"/>
          <p:cNvSpPr/>
          <p:nvPr/>
        </p:nvSpPr>
        <p:spPr>
          <a:xfrm>
            <a:off x="4284720" y="4689360"/>
            <a:ext cx="44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йти можно по уважительным причинам и только в сопровождении дежур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7"/>
          <p:cNvSpPr/>
          <p:nvPr/>
        </p:nvSpPr>
        <p:spPr>
          <a:xfrm>
            <a:off x="179280" y="5904000"/>
            <a:ext cx="88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Если Вы нарушите установленные правила, Вас могут удалить с экзамен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9" name="Picture 2" descr="X:\11_Тихонов\2012\презент2012\221982-3d-Teeny-Person-With-A-Red-Exclamation-Point.jpg"/>
          <p:cNvPicPr/>
          <p:nvPr/>
        </p:nvPicPr>
        <p:blipFill>
          <a:blip r:embed="rId1"/>
          <a:srcRect l="0" t="0" r="14855" b="0"/>
          <a:stretch/>
        </p:blipFill>
        <p:spPr>
          <a:xfrm>
            <a:off x="5102280" y="6058080"/>
            <a:ext cx="298440" cy="393480"/>
          </a:xfrm>
          <a:prstGeom prst="rect">
            <a:avLst/>
          </a:prstGeom>
          <a:ln w="0">
            <a:noFill/>
          </a:ln>
        </p:spPr>
      </p:pic>
      <p:pic>
        <p:nvPicPr>
          <p:cNvPr id="2010" name="Picture 22" descr="G:\РЦОИ\2012\презент2012\1088557-3d-Teeny-White-Person-Walking-Towards-An-Open-Door.jpg"/>
          <p:cNvPicPr/>
          <p:nvPr/>
        </p:nvPicPr>
        <p:blipFill>
          <a:blip r:embed="rId2"/>
          <a:srcRect l="0" t="0" r="0" b="14791"/>
          <a:stretch/>
        </p:blipFill>
        <p:spPr>
          <a:xfrm>
            <a:off x="123840" y="620640"/>
            <a:ext cx="13366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2011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12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3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1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6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18" name="TextBox 10"/>
          <p:cNvSpPr/>
          <p:nvPr/>
        </p:nvSpPr>
        <p:spPr>
          <a:xfrm>
            <a:off x="298440" y="303372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нехватке места для записи ответов на задания части С можно попросить у организатора в аудитор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бланк ответов № 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Прямая соединительная линия 12"/>
          <p:cNvSpPr/>
          <p:nvPr/>
        </p:nvSpPr>
        <p:spPr>
          <a:xfrm>
            <a:off x="515880" y="270828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Box 7"/>
          <p:cNvSpPr/>
          <p:nvPr/>
        </p:nvSpPr>
        <p:spPr>
          <a:xfrm>
            <a:off x="1403280" y="657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ыходе из аудитории во время экзамена  бланки остаются на столе обучающегося, организатор визуально смотрит, со стола ничего не бер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1" name="Picture 2" descr="X:\11_Тихонов\2012\презент2012\221982-3d-Teeny-Person-With-A-Red-Exclamation-Point.jpg"/>
          <p:cNvPicPr/>
          <p:nvPr/>
        </p:nvPicPr>
        <p:blipFill>
          <a:blip r:embed="rId5"/>
          <a:srcRect l="0" t="0" r="14855" b="0"/>
          <a:stretch/>
        </p:blipFill>
        <p:spPr>
          <a:xfrm>
            <a:off x="7740720" y="762120"/>
            <a:ext cx="1165320" cy="1542960"/>
          </a:xfrm>
          <a:prstGeom prst="rect">
            <a:avLst/>
          </a:prstGeom>
          <a:ln w="0">
            <a:noFill/>
          </a:ln>
        </p:spPr>
      </p:pic>
      <p:sp>
        <p:nvSpPr>
          <p:cNvPr id="2022" name="Прямоугольник 36"/>
          <p:cNvSpPr/>
          <p:nvPr/>
        </p:nvSpPr>
        <p:spPr>
          <a:xfrm>
            <a:off x="1079640" y="4473720"/>
            <a:ext cx="68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окончании экзамена все участники должны сд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3" name="Picture 2" descr="X:\11_Тихонов\2012\презент2012\1088555-3d-Teeny-White-Person-Reading-A-Long-List.jpg"/>
          <p:cNvPicPr/>
          <p:nvPr/>
        </p:nvPicPr>
        <p:blipFill>
          <a:blip r:embed="rId6"/>
          <a:srcRect l="0" t="0" r="0" b="13747"/>
          <a:stretch/>
        </p:blipFill>
        <p:spPr>
          <a:xfrm>
            <a:off x="6389640" y="3033720"/>
            <a:ext cx="1517760" cy="1160280"/>
          </a:xfrm>
          <a:prstGeom prst="rect">
            <a:avLst/>
          </a:prstGeom>
          <a:ln w="0">
            <a:noFill/>
          </a:ln>
        </p:spPr>
      </p:pic>
      <p:sp>
        <p:nvSpPr>
          <p:cNvPr id="2024" name="Прямоугольник 37"/>
          <p:cNvSpPr/>
          <p:nvPr/>
        </p:nvSpPr>
        <p:spPr>
          <a:xfrm>
            <a:off x="670320" y="49323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н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Прямоугольник 39"/>
          <p:cNvSpPr/>
          <p:nvPr/>
        </p:nvSpPr>
        <p:spPr>
          <a:xfrm>
            <a:off x="731880" y="539424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новик и КИ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6" name="Picture 3" descr="X:\11_Тихонов\2012\презент2012\221715-3d-Teeny-Person-Carrying-A-Blue-House.jpg"/>
          <p:cNvPicPr/>
          <p:nvPr/>
        </p:nvPicPr>
        <p:blipFill>
          <a:blip r:embed="rId7"/>
          <a:srcRect l="0" t="0" r="11381" b="7842"/>
          <a:stretch/>
        </p:blipFill>
        <p:spPr>
          <a:xfrm>
            <a:off x="3182760" y="5013360"/>
            <a:ext cx="776520" cy="911160"/>
          </a:xfrm>
          <a:prstGeom prst="rect">
            <a:avLst/>
          </a:prstGeom>
          <a:ln w="0">
            <a:noFill/>
          </a:ln>
        </p:spPr>
      </p:pic>
      <p:pic>
        <p:nvPicPr>
          <p:cNvPr id="2027" name="Picture 4" descr="X:\11_Тихонов\2012\презент2012\221974-3d-Teeny-Person-With-A-Check-Mark-2.jpg"/>
          <p:cNvPicPr/>
          <p:nvPr/>
        </p:nvPicPr>
        <p:blipFill>
          <a:blip r:embed="rId8"/>
          <a:srcRect l="0" t="0" r="0" b="22315"/>
          <a:stretch/>
        </p:blipFill>
        <p:spPr>
          <a:xfrm>
            <a:off x="360360" y="4384800"/>
            <a:ext cx="719280" cy="495000"/>
          </a:xfrm>
          <a:prstGeom prst="rect">
            <a:avLst/>
          </a:prstGeom>
          <a:ln w="0">
            <a:noFill/>
          </a:ln>
        </p:spPr>
      </p:pic>
      <p:sp>
        <p:nvSpPr>
          <p:cNvPr id="2028" name="Прямоугольник 42"/>
          <p:cNvSpPr/>
          <p:nvPr/>
        </p:nvSpPr>
        <p:spPr>
          <a:xfrm>
            <a:off x="34920" y="5807160"/>
            <a:ext cx="90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даче материалов необходимо расписаться в ведо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Box 7"/>
          <p:cNvSpPr/>
          <p:nvPr/>
        </p:nvSpPr>
        <p:spPr>
          <a:xfrm>
            <a:off x="792000" y="1604880"/>
            <a:ext cx="68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кзамен не завершен по уважительной причине, то решение о его пересдаче выносит государственная экзаменационная комиссия (ГЭК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Прямая соединительная линия 21"/>
          <p:cNvSpPr/>
          <p:nvPr/>
        </p:nvSpPr>
        <p:spPr>
          <a:xfrm>
            <a:off x="515880" y="4410000"/>
            <a:ext cx="8016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1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32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4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3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Действия в ППЭ во время экзамена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38" name="TextBox 10"/>
          <p:cNvSpPr/>
          <p:nvPr/>
        </p:nvSpPr>
        <p:spPr>
          <a:xfrm>
            <a:off x="826920" y="3429000"/>
            <a:ext cx="8315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кончании сбора экзаменационных материалов организаторы в аудиториях пересчитывают бланки и запечатывают их в специальные доставочные пакеты (конвер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Прямоугольник 36"/>
          <p:cNvSpPr/>
          <p:nvPr/>
        </p:nvSpPr>
        <p:spPr>
          <a:xfrm>
            <a:off x="298440" y="800280"/>
            <a:ext cx="733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дать экзаменационные материалы можно раньше, если все выполнено, но не позднее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минут до конца самого экза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2" descr="X:\11_Тихонов\2012\презент2012\221982-3d-Teeny-Person-With-A-Red-Exclamation-Point.jpg"/>
          <p:cNvPicPr/>
          <p:nvPr/>
        </p:nvPicPr>
        <p:blipFill>
          <a:blip r:embed="rId3"/>
          <a:srcRect l="0" t="0" r="14855" b="0"/>
          <a:stretch/>
        </p:blipFill>
        <p:spPr>
          <a:xfrm>
            <a:off x="7907400" y="804960"/>
            <a:ext cx="841320" cy="1114200"/>
          </a:xfrm>
          <a:prstGeom prst="rect">
            <a:avLst/>
          </a:prstGeom>
          <a:ln w="0">
            <a:noFill/>
          </a:ln>
        </p:spPr>
      </p:pic>
      <p:sp>
        <p:nvSpPr>
          <p:cNvPr id="2041" name="Прямоугольник 20"/>
          <p:cNvSpPr/>
          <p:nvPr/>
        </p:nvSpPr>
        <p:spPr>
          <a:xfrm>
            <a:off x="108000" y="2457360"/>
            <a:ext cx="73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истечении времени экзамена организаторы самостоятельно собирают экзаменационны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2" name="Picture 2" descr="X:\11_Тихонов\2012\презент2012\221720-3d-Teeny-Person-Carrying-A-Box.jpg"/>
          <p:cNvPicPr/>
          <p:nvPr/>
        </p:nvPicPr>
        <p:blipFill>
          <a:blip r:embed="rId4"/>
          <a:srcRect l="0" t="0" r="0" b="9738"/>
          <a:stretch/>
        </p:blipFill>
        <p:spPr>
          <a:xfrm>
            <a:off x="3598920" y="5054760"/>
            <a:ext cx="1298520" cy="1326960"/>
          </a:xfrm>
          <a:prstGeom prst="rect">
            <a:avLst/>
          </a:prstGeom>
          <a:ln w="0">
            <a:noFill/>
          </a:ln>
        </p:spPr>
      </p:pic>
      <p:pic>
        <p:nvPicPr>
          <p:cNvPr id="2043" name="Picture 3" descr="X:\11_Тихонов\2012\презент2012\1087249-3d-Teeny-White-Teenage-Person-Stepping-On-Notebooks.jpg"/>
          <p:cNvPicPr/>
          <p:nvPr/>
        </p:nvPicPr>
        <p:blipFill>
          <a:blip r:embed="rId5"/>
          <a:srcRect l="0" t="0" r="0" b="11606"/>
          <a:stretch/>
        </p:blipFill>
        <p:spPr>
          <a:xfrm>
            <a:off x="3598920" y="1700280"/>
            <a:ext cx="890640" cy="89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11 класс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Если выпускник текущего года получает результат ниже минимального количества баллов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одному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из обязательных предметов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 (русский язык или математика), то он может пересдать этот экзамен в этом же году в резервные дни. 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899640" y="115560"/>
            <a:ext cx="79549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В 9 классе могут повторно сдать экзамены обучающиеся, получившие неудовлетворительные результаты по двум учебным предметам в резервные дни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7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Также допускаются к пересдаче в 9 и 11 классах обучающиеся: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е явившиеся на экзамены по уважительным причинам (болезнь или иные обстоятельства, подтвержденные документально);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Не завершившие выполнение экзаменационной работы  по уважительным причинам (болезнь или иные обстоятельства, подтвержденные документально</a:t>
            </a:r>
            <a:r>
              <a:rPr b="0" lang="ru-RU" sz="2000" spc="-1" strike="noStrike">
                <a:solidFill>
                  <a:srgbClr val="4a452a"/>
                </a:solidFill>
                <a:latin typeface="Calibri"/>
              </a:rPr>
              <a:t>);</a:t>
            </a: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ssandra"/>
              </a:rPr>
              <a:t>Апелляция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49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Апелляция – это письменное заявление участника ГИА либо о нарушении установленного порядка проведения ЕГЭ, ОГЭ; либо о несогласии с результатами ЕГЭ, ОГЭ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0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51" name="Прямоугольник 9" descr=""/>
            <p:cNvPicPr/>
            <p:nvPr/>
          </p:nvPicPr>
          <p:blipFill>
            <a:blip r:embed="rId1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2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5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5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Экзамен проходил с нарушениями? Результат по баллам не удовлетворил?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57" name="TextBox 7"/>
          <p:cNvSpPr/>
          <p:nvPr/>
        </p:nvSpPr>
        <p:spPr>
          <a:xfrm>
            <a:off x="3581280" y="65232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пел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Box 10"/>
          <p:cNvSpPr/>
          <p:nvPr/>
        </p:nvSpPr>
        <p:spPr>
          <a:xfrm>
            <a:off x="1368360" y="159228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процед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TextBox 11"/>
          <p:cNvSpPr/>
          <p:nvPr/>
        </p:nvSpPr>
        <p:spPr>
          <a:xfrm>
            <a:off x="5759280" y="162864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бал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Прямоугольник 1"/>
          <p:cNvSpPr/>
          <p:nvPr/>
        </p:nvSpPr>
        <p:spPr>
          <a:xfrm>
            <a:off x="306360" y="2241720"/>
            <a:ext cx="354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арушении установленного порядка проведения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Прямоугольник 13"/>
          <p:cNvSpPr/>
          <p:nvPr/>
        </p:nvSpPr>
        <p:spPr>
          <a:xfrm>
            <a:off x="304920" y="4157640"/>
            <a:ext cx="369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нь экзамена после сдачи бланков ЕГЭ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выхода из ППЭ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лномоченному представителю ГЭ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Прямоугольник 14"/>
          <p:cNvSpPr/>
          <p:nvPr/>
        </p:nvSpPr>
        <p:spPr>
          <a:xfrm>
            <a:off x="4429080" y="415764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е двух рабочих дней после официального объявления результатов экзамена, руководителю образовательного 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3" name="Picture 2" descr="X:\11_Тихонов\2012\презент2012\221982-3d-Teeny-Person-With-A-Red-Exclamation-Point.jpg"/>
          <p:cNvPicPr/>
          <p:nvPr/>
        </p:nvPicPr>
        <p:blipFill>
          <a:blip r:embed="rId3"/>
          <a:srcRect l="0" t="0" r="14855" b="0"/>
          <a:stretch/>
        </p:blipFill>
        <p:spPr>
          <a:xfrm>
            <a:off x="4200480" y="1233360"/>
            <a:ext cx="839880" cy="1113120"/>
          </a:xfrm>
          <a:prstGeom prst="rect">
            <a:avLst/>
          </a:prstGeom>
          <a:ln w="0">
            <a:noFill/>
          </a:ln>
        </p:spPr>
      </p:pic>
      <p:sp>
        <p:nvSpPr>
          <p:cNvPr id="2064" name="Дуга 20"/>
          <p:cNvSpPr/>
          <p:nvPr/>
        </p:nvSpPr>
        <p:spPr>
          <a:xfrm>
            <a:off x="4500720" y="879480"/>
            <a:ext cx="2232000" cy="1325520"/>
          </a:xfrm>
          <a:custGeom>
            <a:avLst/>
            <a:gdLst/>
            <a:ahLst/>
            <a:rect l="l" t="t" r="r" b="b"/>
            <a:pathLst>
              <a:path stroke="0" w="2232025" h="1325563">
                <a:moveTo>
                  <a:pt x="1116012" y="0"/>
                </a:moveTo>
                <a:cubicBezTo>
                  <a:pt x="1321555" y="0"/>
                  <a:pt x="1523106" y="33711"/>
                  <a:pt x="1698438" y="97417"/>
                </a:cubicBezTo>
                <a:cubicBezTo>
                  <a:pt x="2046918" y="224034"/>
                  <a:pt x="2251057" y="453612"/>
                  <a:pt x="2230629" y="695925"/>
                </a:cubicBezTo>
                <a:lnTo>
                  <a:pt x="1116013" y="662782"/>
                </a:lnTo>
                <a:cubicBezTo>
                  <a:pt x="1116013" y="441855"/>
                  <a:pt x="1116012" y="220927"/>
                  <a:pt x="1116012" y="0"/>
                </a:cubicBezTo>
                <a:close/>
              </a:path>
              <a:path fill="none" w="2232025" h="1325563">
                <a:moveTo>
                  <a:pt x="1116012" y="0"/>
                </a:moveTo>
                <a:cubicBezTo>
                  <a:pt x="1321555" y="0"/>
                  <a:pt x="1523106" y="33711"/>
                  <a:pt x="1698438" y="97417"/>
                </a:cubicBezTo>
                <a:cubicBezTo>
                  <a:pt x="2046918" y="224034"/>
                  <a:pt x="2251057" y="453612"/>
                  <a:pt x="2230629" y="695925"/>
                </a:cubicBezTo>
              </a:path>
            </a:pathLst>
          </a:custGeom>
          <a:noFill/>
          <a:ln w="44280">
            <a:solidFill>
              <a:srgbClr val="c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Дуга 21"/>
          <p:cNvSpPr/>
          <p:nvPr/>
        </p:nvSpPr>
        <p:spPr>
          <a:xfrm flipH="1">
            <a:off x="2267640" y="879480"/>
            <a:ext cx="2303640" cy="1440000"/>
          </a:xfrm>
          <a:custGeom>
            <a:avLst/>
            <a:gdLst/>
            <a:ahLst/>
            <a:rect l="l" t="t" r="r" b="b"/>
            <a:pathLst>
              <a:path stroke="0" w="2303462" h="1439863">
                <a:moveTo>
                  <a:pt x="1151731" y="0"/>
                </a:moveTo>
                <a:cubicBezTo>
                  <a:pt x="1374308" y="0"/>
                  <a:pt x="1592117" y="40314"/>
                  <a:pt x="1778811" y="116066"/>
                </a:cubicBezTo>
                <a:cubicBezTo>
                  <a:pt x="2126756" y="257246"/>
                  <a:pt x="2326363" y="504479"/>
                  <a:pt x="2301370" y="763308"/>
                </a:cubicBezTo>
                <a:lnTo>
                  <a:pt x="1151731" y="719932"/>
                </a:lnTo>
                <a:lnTo>
                  <a:pt x="1151731" y="0"/>
                </a:lnTo>
                <a:close/>
              </a:path>
              <a:path fill="none" w="2303462" h="1439863">
                <a:moveTo>
                  <a:pt x="1151731" y="0"/>
                </a:moveTo>
                <a:cubicBezTo>
                  <a:pt x="1374308" y="0"/>
                  <a:pt x="1592117" y="40314"/>
                  <a:pt x="1778811" y="116066"/>
                </a:cubicBezTo>
                <a:cubicBezTo>
                  <a:pt x="2126756" y="257246"/>
                  <a:pt x="2326363" y="504479"/>
                  <a:pt x="2301370" y="763308"/>
                </a:cubicBezTo>
              </a:path>
            </a:pathLst>
          </a:custGeom>
          <a:noFill/>
          <a:ln w="47520">
            <a:solidFill>
              <a:srgbClr val="c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Прямоугольник 1"/>
          <p:cNvSpPr/>
          <p:nvPr/>
        </p:nvSpPr>
        <p:spPr>
          <a:xfrm>
            <a:off x="5329080" y="2205000"/>
            <a:ext cx="334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несогласии с выставленными баллами (отметками) по ЕГЭ и О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Box 7"/>
          <p:cNvSpPr/>
          <p:nvPr/>
        </p:nvSpPr>
        <p:spPr>
          <a:xfrm>
            <a:off x="304920" y="5718240"/>
            <a:ext cx="836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На заседании Конфликтной комиссии принимаются решения об отклонении или удовлетворении апел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TextBox 7"/>
          <p:cNvSpPr/>
          <p:nvPr/>
        </p:nvSpPr>
        <p:spPr>
          <a:xfrm>
            <a:off x="3581280" y="3429000"/>
            <a:ext cx="19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AutoShape 17"/>
          <p:cNvSpPr/>
          <p:nvPr/>
        </p:nvSpPr>
        <p:spPr>
          <a:xfrm rot="16200000">
            <a:off x="2126160" y="3774240"/>
            <a:ext cx="300240" cy="161640"/>
          </a:xfrm>
          <a:prstGeom prst="leftArrow">
            <a:avLst>
              <a:gd name="adj1" fmla="val 50000"/>
              <a:gd name="adj2" fmla="val 4365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AutoShape 17"/>
          <p:cNvSpPr/>
          <p:nvPr/>
        </p:nvSpPr>
        <p:spPr>
          <a:xfrm rot="16200000">
            <a:off x="6582600" y="3774240"/>
            <a:ext cx="300240" cy="162000"/>
          </a:xfrm>
          <a:prstGeom prst="leftArrow">
            <a:avLst>
              <a:gd name="adj1" fmla="val 50000"/>
              <a:gd name="adj2" fmla="val 43553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10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0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autoRev="1" nodeType="after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01481 E">
                                      <p:cBhvr>
                                        <p:cTn id="306" dur="1000" fill="hold"/>
                                        <p:tgtEl>
                                          <p:spTgt spid="2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autoRev="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59259E-006 L 2.77778E-007 0.01481 E">
                                      <p:cBhvr>
                                        <p:cTn id="308" dur="1000" fill="hold"/>
                                        <p:tgtEl>
                                          <p:spTgt spid="20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2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2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0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Единый государственный экзамен (ЕГЭ) — это форма государственной итоговой аттестации  по образовательным программам среднего общего образования(ГИА)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Основной формой ГИА-9 является ОГЭ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ля обучающихся с ОВЗ, детей-инвалидов и инвалидов итоговая аттестация проводится в форме ГВЭ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ля проведения ЕГЭ и ОГЭ составляется 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единое расписание</a:t>
            </a: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452a"/>
                </a:solidFill>
                <a:latin typeface="Cassandra"/>
              </a:rPr>
              <a:t>Результаты  рассмотрения апелляции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72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По результатам рассмотрения апелляции количество выставленных баллов может быть изменено как в сторону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увеличения, так и в сторону уменьшени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Экзаменационная работа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перепроверяется полностью</a:t>
            </a: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, а не отдельная ее часть. 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Черновики, использованные на экзамене, в качестве материалов апелляции </a:t>
            </a:r>
            <a:r>
              <a:rPr b="0" lang="ru-RU" sz="2800" spc="-1" strike="noStrike">
                <a:solidFill>
                  <a:srgbClr val="c0504d"/>
                </a:solidFill>
                <a:latin typeface="Calibri"/>
              </a:rPr>
              <a:t>не рассматриваются.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3" name="Picture 2" descr="X:\11_Тихонов\2012\презент2012\1087186-3d-Teeny-White-Person-Typing-On-A-Keyboard-By-WWW.jpg"/>
          <p:cNvPicPr/>
          <p:nvPr/>
        </p:nvPicPr>
        <p:blipFill>
          <a:blip r:embed="rId1"/>
          <a:srcRect l="0" t="0" r="0" b="14614"/>
          <a:stretch/>
        </p:blipFill>
        <p:spPr>
          <a:xfrm>
            <a:off x="6788160" y="476280"/>
            <a:ext cx="1905120" cy="1322280"/>
          </a:xfrm>
          <a:prstGeom prst="rect">
            <a:avLst/>
          </a:prstGeom>
          <a:ln w="0">
            <a:noFill/>
          </a:ln>
        </p:spPr>
      </p:pic>
      <p:grpSp>
        <p:nvGrpSpPr>
          <p:cNvPr id="2074" name="Прямоугольник 9"/>
          <p:cNvGrpSpPr/>
          <p:nvPr/>
        </p:nvGrpSpPr>
        <p:grpSpPr>
          <a:xfrm>
            <a:off x="-6480" y="6419880"/>
            <a:ext cx="9163080" cy="450720"/>
            <a:chOff x="-6480" y="6419880"/>
            <a:chExt cx="9163080" cy="450720"/>
          </a:xfrm>
        </p:grpSpPr>
        <p:pic>
          <p:nvPicPr>
            <p:cNvPr id="2075" name="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-6480" y="6419880"/>
              <a:ext cx="916308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6" name=""/>
            <p:cNvSpPr/>
            <p:nvPr/>
          </p:nvSpPr>
          <p:spPr>
            <a:xfrm>
              <a:off x="0" y="6426360"/>
              <a:ext cx="9144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7" name="Прямоугольник 8"/>
          <p:cNvGrpSpPr/>
          <p:nvPr/>
        </p:nvGrpSpPr>
        <p:grpSpPr>
          <a:xfrm>
            <a:off x="-6480" y="-6480"/>
            <a:ext cx="9163080" cy="639720"/>
            <a:chOff x="-6480" y="-6480"/>
            <a:chExt cx="9163080" cy="639720"/>
          </a:xfrm>
        </p:grpSpPr>
        <p:pic>
          <p:nvPicPr>
            <p:cNvPr id="2078" name="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630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9" name=""/>
            <p:cNvSpPr/>
            <p:nvPr/>
          </p:nvSpPr>
          <p:spPr>
            <a:xfrm>
              <a:off x="0" y="0"/>
              <a:ext cx="914400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Cassandra"/>
              </a:rPr>
              <a:t>Посмотреть  и ознакомиться с информацией по ЕГЭ и ОГЭ можно</a:t>
            </a:r>
            <a:endParaRPr b="0" lang="en-US" sz="2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81" name="Rectangle 1"/>
          <p:cNvSpPr/>
          <p:nvPr/>
        </p:nvSpPr>
        <p:spPr>
          <a:xfrm>
            <a:off x="287280" y="136044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фициальном информационном портале ЕГЭ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Федерального государственного учреждения «Федеральный институт педагогических измерений» (ФИПИ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p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Федерального государственного учреждения «Федеральный центр тестирования» (ФЦТ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ww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ustest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ru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Прямоугольник 10"/>
          <p:cNvSpPr/>
          <p:nvPr/>
        </p:nvSpPr>
        <p:spPr>
          <a:xfrm>
            <a:off x="287280" y="3944880"/>
            <a:ext cx="856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Государственного бюджетного учреждения Ростовской области Ростовского  центра обработки информации в сфере образования (далее – РО ЦОИСО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ocoiso@rostobr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сайте Кашарского отдела образования администрации Кашарского района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okasharsky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20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2000"/>
                                        <p:tgtEl>
                                          <p:spTgt spid="2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2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3" name="Заголовок 3" descr=""/>
          <p:cNvPicPr/>
          <p:nvPr/>
        </p:nvPicPr>
        <p:blipFill>
          <a:blip r:embed="rId1"/>
          <a:stretch/>
        </p:blipFill>
        <p:spPr>
          <a:xfrm>
            <a:off x="1243080" y="1285920"/>
            <a:ext cx="685800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4" name="Диаграмма 4"/>
          <p:cNvGraphicFramePr/>
          <p:nvPr/>
        </p:nvGraphicFramePr>
        <p:xfrm>
          <a:off x="985680" y="1760400"/>
          <a:ext cx="4197600" cy="445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5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5680" y="1760400"/>
                    <a:ext cx="419760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6" name="Picture 4" descr="C:\Users\kadach_tg\Desktop\142237_mobile_512x512.png"/>
          <p:cNvPicPr/>
          <p:nvPr/>
        </p:nvPicPr>
        <p:blipFill>
          <a:blip r:embed="rId4"/>
          <a:stretch/>
        </p:blipFill>
        <p:spPr>
          <a:xfrm rot="20370000">
            <a:off x="5241600" y="3603240"/>
            <a:ext cx="766800" cy="76680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6" descr="C:\Users\kadach_tg\Desktop\0_1146b0_759023cd_S.png"/>
          <p:cNvPicPr/>
          <p:nvPr/>
        </p:nvPicPr>
        <p:blipFill>
          <a:blip r:embed="rId5"/>
          <a:stretch/>
        </p:blipFill>
        <p:spPr>
          <a:xfrm rot="354600">
            <a:off x="4711320" y="4906800"/>
            <a:ext cx="765360" cy="830520"/>
          </a:xfrm>
          <a:prstGeom prst="rect">
            <a:avLst/>
          </a:prstGeom>
          <a:ln w="0">
            <a:noFill/>
          </a:ln>
        </p:spPr>
      </p:pic>
      <p:pic>
        <p:nvPicPr>
          <p:cNvPr id="2088" name="Picture 7" descr="C:\Users\kadach_tg\Desktop\5a8ad4ab9ea93161ae4ebe82.png"/>
          <p:cNvPicPr/>
          <p:nvPr/>
        </p:nvPicPr>
        <p:blipFill>
          <a:blip r:embed="rId6"/>
          <a:stretch/>
        </p:blipFill>
        <p:spPr>
          <a:xfrm>
            <a:off x="4789440" y="5010120"/>
            <a:ext cx="514440" cy="609480"/>
          </a:xfrm>
          <a:prstGeom prst="rect">
            <a:avLst/>
          </a:prstGeom>
          <a:ln w="0">
            <a:noFill/>
          </a:ln>
        </p:spPr>
      </p:pic>
      <p:cxnSp>
        <p:nvCxnSpPr>
          <p:cNvPr id="2089" name="Соединительная линия уступом 15"/>
          <p:cNvCxnSpPr>
            <a:stCxn id="2086" idx="1"/>
          </p:cNvCxnSpPr>
          <p:nvPr/>
        </p:nvCxnSpPr>
        <p:spPr>
          <a:xfrm rot="10800000">
            <a:off x="4193280" y="3493440"/>
            <a:ext cx="1072440" cy="627840"/>
          </a:xfrm>
          <a:prstGeom prst="bentConnector3">
            <a:avLst>
              <a:gd name="adj1" fmla="val 39758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090" name="Соединительная линия уступом 21"/>
          <p:cNvCxnSpPr>
            <a:stCxn id="2087" idx="1"/>
          </p:cNvCxnSpPr>
          <p:nvPr/>
        </p:nvCxnSpPr>
        <p:spPr>
          <a:xfrm rot="10800000">
            <a:off x="3276000" y="4868280"/>
            <a:ext cx="1437120" cy="415080"/>
          </a:xfrm>
          <a:prstGeom prst="bentConnector3">
            <a:avLst>
              <a:gd name="adj1" fmla="val 100225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sp>
        <p:nvSpPr>
          <p:cNvPr id="2091" name="Прямоугольник 49"/>
          <p:cNvSpPr/>
          <p:nvPr/>
        </p:nvSpPr>
        <p:spPr>
          <a:xfrm>
            <a:off x="6081840" y="3925800"/>
            <a:ext cx="19159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город Донец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Прямоугольник 51"/>
          <p:cNvSpPr/>
          <p:nvPr/>
        </p:nvSpPr>
        <p:spPr>
          <a:xfrm>
            <a:off x="5516640" y="5227560"/>
            <a:ext cx="24969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Азовский рай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Прямоугольник 55"/>
          <p:cNvSpPr/>
          <p:nvPr/>
        </p:nvSpPr>
        <p:spPr>
          <a:xfrm>
            <a:off x="5516640" y="4653000"/>
            <a:ext cx="24969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город Ростов-на-Дону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Gothic"/>
              </a:rPr>
              <a:t>Ворошиловский  райо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4" name="Заголовок 3" descr=""/>
          <p:cNvPicPr/>
          <p:nvPr/>
        </p:nvPicPr>
        <p:blipFill>
          <a:blip r:embed="rId7"/>
          <a:stretch/>
        </p:blipFill>
        <p:spPr>
          <a:xfrm>
            <a:off x="5327640" y="2084400"/>
            <a:ext cx="3225960" cy="646200"/>
          </a:xfrm>
          <a:prstGeom prst="rect">
            <a:avLst/>
          </a:prstGeom>
          <a:ln w="0">
            <a:noFill/>
          </a:ln>
        </p:spPr>
      </p:pic>
      <p:sp>
        <p:nvSpPr>
          <p:cNvPr id="2095" name="Прямоугольник 63"/>
          <p:cNvSpPr/>
          <p:nvPr/>
        </p:nvSpPr>
        <p:spPr>
          <a:xfrm>
            <a:off x="5303880" y="2581200"/>
            <a:ext cx="32670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далены за наличие запрещенных средств с повторным допу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 сдаче ГИА-9 в сентябрьские с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6" name="Заголовок 3" descr=""/>
          <p:cNvPicPr/>
          <p:nvPr/>
        </p:nvPicPr>
        <p:blipFill>
          <a:blip r:embed="rId1"/>
          <a:stretch/>
        </p:blipFill>
        <p:spPr>
          <a:xfrm>
            <a:off x="1133640" y="1206360"/>
            <a:ext cx="6858000" cy="97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7" name="Диаграмма 4"/>
          <p:cNvGraphicFramePr/>
          <p:nvPr/>
        </p:nvGraphicFramePr>
        <p:xfrm>
          <a:off x="1452600" y="1596960"/>
          <a:ext cx="3808440" cy="3706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8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52600" y="1596960"/>
                    <a:ext cx="380844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9" name="Picture 3" descr="C:\Users\kadach_tg\Desktop\calculator_yellow.png"/>
          <p:cNvPicPr/>
          <p:nvPr/>
        </p:nvPicPr>
        <p:blipFill>
          <a:blip r:embed="rId4"/>
          <a:stretch/>
        </p:blipFill>
        <p:spPr>
          <a:xfrm rot="20838600">
            <a:off x="1440000" y="1722600"/>
            <a:ext cx="628560" cy="67140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4" descr="C:\Users\kadach_tg\Desktop\142237_mobile_512x512.png"/>
          <p:cNvPicPr/>
          <p:nvPr/>
        </p:nvPicPr>
        <p:blipFill>
          <a:blip r:embed="rId5"/>
          <a:stretch/>
        </p:blipFill>
        <p:spPr>
          <a:xfrm rot="20370000">
            <a:off x="4156200" y="3623760"/>
            <a:ext cx="768240" cy="766800"/>
          </a:xfrm>
          <a:prstGeom prst="rect">
            <a:avLst/>
          </a:prstGeom>
          <a:ln w="0">
            <a:noFill/>
          </a:ln>
        </p:spPr>
      </p:pic>
      <p:pic>
        <p:nvPicPr>
          <p:cNvPr id="2101" name="Picture 6" descr="C:\Users\kadach_tg\Desktop\0_1146b0_759023cd_S.png"/>
          <p:cNvPicPr/>
          <p:nvPr/>
        </p:nvPicPr>
        <p:blipFill>
          <a:blip r:embed="rId6"/>
          <a:stretch/>
        </p:blipFill>
        <p:spPr>
          <a:xfrm rot="354600">
            <a:off x="1329840" y="3559320"/>
            <a:ext cx="765360" cy="830160"/>
          </a:xfrm>
          <a:prstGeom prst="rect">
            <a:avLst/>
          </a:prstGeom>
          <a:ln w="0">
            <a:noFill/>
          </a:ln>
        </p:spPr>
      </p:pic>
      <p:pic>
        <p:nvPicPr>
          <p:cNvPr id="2102" name="Picture 7" descr="C:\Users\kadach_tg\Desktop\5a8ad4ab9ea93161ae4ebe82.png"/>
          <p:cNvPicPr/>
          <p:nvPr/>
        </p:nvPicPr>
        <p:blipFill>
          <a:blip r:embed="rId7"/>
          <a:stretch/>
        </p:blipFill>
        <p:spPr>
          <a:xfrm>
            <a:off x="1407960" y="3662280"/>
            <a:ext cx="514440" cy="609840"/>
          </a:xfrm>
          <a:prstGeom prst="rect">
            <a:avLst/>
          </a:prstGeom>
          <a:ln w="0">
            <a:noFill/>
          </a:ln>
        </p:spPr>
      </p:pic>
      <p:cxnSp>
        <p:nvCxnSpPr>
          <p:cNvPr id="2103" name="Соединительная линия уступом 6"/>
          <p:cNvCxnSpPr>
            <a:stCxn id="2099" idx="3"/>
          </p:cNvCxnSpPr>
          <p:nvPr/>
        </p:nvCxnSpPr>
        <p:spPr>
          <a:xfrm>
            <a:off x="2131920" y="1766520"/>
            <a:ext cx="766080" cy="244800"/>
          </a:xfrm>
          <a:prstGeom prst="bentConnector3">
            <a:avLst>
              <a:gd name="adj1" fmla="val 101316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104" name="Соединительная линия уступом 15"/>
          <p:cNvCxnSpPr/>
          <p:nvPr/>
        </p:nvCxnSpPr>
        <p:spPr>
          <a:xfrm flipV="1" rot="16200000">
            <a:off x="4149360" y="3037680"/>
            <a:ext cx="480240" cy="473760"/>
          </a:xfrm>
          <a:prstGeom prst="bentConnector3">
            <a:avLst>
              <a:gd name="adj1" fmla="val 99549"/>
            </a:avLst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cxnSp>
        <p:nvCxnSpPr>
          <p:cNvPr id="2105" name="Соединительная линия уступом 21"/>
          <p:cNvCxnSpPr>
            <a:stCxn id="2102" idx="0"/>
          </p:cNvCxnSpPr>
          <p:nvPr/>
        </p:nvCxnSpPr>
        <p:spPr>
          <a:xfrm flipH="1" flipV="1" rot="5400000">
            <a:off x="1802160" y="3260160"/>
            <a:ext cx="264240" cy="540360"/>
          </a:xfrm>
          <a:prstGeom prst="bentConnector2">
            <a:avLst/>
          </a:prstGeom>
          <a:ln w="22320">
            <a:solidFill>
              <a:srgbClr val="7f7f7f"/>
            </a:solidFill>
            <a:miter/>
            <a:headEnd len="med" type="oval" w="med"/>
          </a:ln>
        </p:spPr>
      </p:cxnSp>
      <p:sp>
        <p:nvSpPr>
          <p:cNvPr id="2106" name="Прямоугольник 45"/>
          <p:cNvSpPr/>
          <p:nvPr/>
        </p:nvSpPr>
        <p:spPr>
          <a:xfrm>
            <a:off x="5425920" y="4017960"/>
            <a:ext cx="1822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Аксай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7" name="Овал 1037"/>
          <p:cNvGrpSpPr/>
          <p:nvPr/>
        </p:nvGrpSpPr>
        <p:grpSpPr>
          <a:xfrm>
            <a:off x="7338960" y="3943440"/>
            <a:ext cx="488880" cy="420480"/>
            <a:chOff x="7338960" y="3943440"/>
            <a:chExt cx="488880" cy="420480"/>
          </a:xfrm>
        </p:grpSpPr>
        <p:pic>
          <p:nvPicPr>
            <p:cNvPr id="2108" name="Овал 1037" descr=""/>
            <p:cNvPicPr/>
            <p:nvPr/>
          </p:nvPicPr>
          <p:blipFill>
            <a:blip r:embed="rId8"/>
            <a:stretch/>
          </p:blipFill>
          <p:spPr>
            <a:xfrm>
              <a:off x="7338960" y="39434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"/>
            <p:cNvSpPr/>
            <p:nvPr/>
          </p:nvSpPr>
          <p:spPr>
            <a:xfrm>
              <a:off x="7426440" y="402264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0" name="Прямоугольник 47"/>
          <p:cNvSpPr/>
          <p:nvPr/>
        </p:nvSpPr>
        <p:spPr>
          <a:xfrm>
            <a:off x="4778280" y="4552920"/>
            <a:ext cx="2470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стантин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1" name="Овал 48"/>
          <p:cNvGrpSpPr/>
          <p:nvPr/>
        </p:nvGrpSpPr>
        <p:grpSpPr>
          <a:xfrm>
            <a:off x="7338960" y="4479840"/>
            <a:ext cx="488880" cy="420840"/>
            <a:chOff x="7338960" y="4479840"/>
            <a:chExt cx="488880" cy="420840"/>
          </a:xfrm>
        </p:grpSpPr>
        <p:pic>
          <p:nvPicPr>
            <p:cNvPr id="2112" name="Овал 48" descr=""/>
            <p:cNvPicPr/>
            <p:nvPr/>
          </p:nvPicPr>
          <p:blipFill>
            <a:blip r:embed="rId9"/>
            <a:stretch/>
          </p:blipFill>
          <p:spPr>
            <a:xfrm>
              <a:off x="7338960" y="447984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3" name=""/>
            <p:cNvSpPr/>
            <p:nvPr/>
          </p:nvSpPr>
          <p:spPr>
            <a:xfrm>
              <a:off x="7426440" y="455616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4" name="Прямоугольник 49"/>
          <p:cNvSpPr/>
          <p:nvPr/>
        </p:nvSpPr>
        <p:spPr>
          <a:xfrm>
            <a:off x="4778280" y="5059440"/>
            <a:ext cx="2470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артын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5" name="Овал 50"/>
          <p:cNvGrpSpPr/>
          <p:nvPr/>
        </p:nvGrpSpPr>
        <p:grpSpPr>
          <a:xfrm>
            <a:off x="7338960" y="4992840"/>
            <a:ext cx="488880" cy="420480"/>
            <a:chOff x="7338960" y="4992840"/>
            <a:chExt cx="488880" cy="420480"/>
          </a:xfrm>
        </p:grpSpPr>
        <p:pic>
          <p:nvPicPr>
            <p:cNvPr id="2116" name="Овал 50" descr=""/>
            <p:cNvPicPr/>
            <p:nvPr/>
          </p:nvPicPr>
          <p:blipFill>
            <a:blip r:embed="rId10"/>
            <a:stretch/>
          </p:blipFill>
          <p:spPr>
            <a:xfrm>
              <a:off x="7338960" y="49928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7" name=""/>
            <p:cNvSpPr/>
            <p:nvPr/>
          </p:nvSpPr>
          <p:spPr>
            <a:xfrm>
              <a:off x="7426440" y="506880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8" name="Прямоугольник 51"/>
          <p:cNvSpPr/>
          <p:nvPr/>
        </p:nvSpPr>
        <p:spPr>
          <a:xfrm>
            <a:off x="4859280" y="5541840"/>
            <a:ext cx="2389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Тарас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9" name="Овал 52"/>
          <p:cNvGrpSpPr/>
          <p:nvPr/>
        </p:nvGrpSpPr>
        <p:grpSpPr>
          <a:xfrm>
            <a:off x="7338960" y="5473800"/>
            <a:ext cx="488880" cy="420480"/>
            <a:chOff x="7338960" y="5473800"/>
            <a:chExt cx="488880" cy="420480"/>
          </a:xfrm>
        </p:grpSpPr>
        <p:pic>
          <p:nvPicPr>
            <p:cNvPr id="2120" name="Овал 52" descr=""/>
            <p:cNvPicPr/>
            <p:nvPr/>
          </p:nvPicPr>
          <p:blipFill>
            <a:blip r:embed="rId11"/>
            <a:stretch/>
          </p:blipFill>
          <p:spPr>
            <a:xfrm>
              <a:off x="7338960" y="547380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1" name=""/>
            <p:cNvSpPr/>
            <p:nvPr/>
          </p:nvSpPr>
          <p:spPr>
            <a:xfrm>
              <a:off x="7426440" y="554976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2" name="Прямоугольник 53"/>
          <p:cNvSpPr/>
          <p:nvPr/>
        </p:nvSpPr>
        <p:spPr>
          <a:xfrm>
            <a:off x="5587920" y="1900080"/>
            <a:ext cx="16606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аль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3" name="Овал 54"/>
          <p:cNvGrpSpPr/>
          <p:nvPr/>
        </p:nvGrpSpPr>
        <p:grpSpPr>
          <a:xfrm>
            <a:off x="7338960" y="1865160"/>
            <a:ext cx="488880" cy="420840"/>
            <a:chOff x="7338960" y="1865160"/>
            <a:chExt cx="488880" cy="420840"/>
          </a:xfrm>
        </p:grpSpPr>
        <p:pic>
          <p:nvPicPr>
            <p:cNvPr id="2124" name="Овал 54" descr=""/>
            <p:cNvPicPr/>
            <p:nvPr/>
          </p:nvPicPr>
          <p:blipFill>
            <a:blip r:embed="rId12"/>
            <a:stretch/>
          </p:blipFill>
          <p:spPr>
            <a:xfrm>
              <a:off x="7338960" y="186516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5" name=""/>
            <p:cNvSpPr/>
            <p:nvPr/>
          </p:nvSpPr>
          <p:spPr>
            <a:xfrm>
              <a:off x="7426440" y="1943280"/>
              <a:ext cx="31104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Прямоугольник 55"/>
          <p:cNvSpPr/>
          <p:nvPr/>
        </p:nvSpPr>
        <p:spPr>
          <a:xfrm>
            <a:off x="4152960" y="2273400"/>
            <a:ext cx="311796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Ростов-на-Дон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entury Gothic"/>
              </a:rPr>
              <a:t>Лениинский, Первомайский, Пролетарский рай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7" name="Овал 56"/>
          <p:cNvGrpSpPr/>
          <p:nvPr/>
        </p:nvGrpSpPr>
        <p:grpSpPr>
          <a:xfrm>
            <a:off x="7338960" y="2438280"/>
            <a:ext cx="488880" cy="420840"/>
            <a:chOff x="7338960" y="2438280"/>
            <a:chExt cx="488880" cy="420840"/>
          </a:xfrm>
        </p:grpSpPr>
        <p:pic>
          <p:nvPicPr>
            <p:cNvPr id="2128" name="Овал 56" descr=""/>
            <p:cNvPicPr/>
            <p:nvPr/>
          </p:nvPicPr>
          <p:blipFill>
            <a:blip r:embed="rId13"/>
            <a:stretch/>
          </p:blipFill>
          <p:spPr>
            <a:xfrm>
              <a:off x="7338960" y="2438280"/>
              <a:ext cx="48888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9" name=""/>
            <p:cNvSpPr/>
            <p:nvPr/>
          </p:nvSpPr>
          <p:spPr>
            <a:xfrm>
              <a:off x="7426440" y="2516040"/>
              <a:ext cx="31104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0" name="Прямоугольник 57"/>
          <p:cNvSpPr/>
          <p:nvPr/>
        </p:nvSpPr>
        <p:spPr>
          <a:xfrm>
            <a:off x="5711760" y="3063960"/>
            <a:ext cx="15368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Зв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1" name="Овал 58"/>
          <p:cNvGrpSpPr/>
          <p:nvPr/>
        </p:nvGrpSpPr>
        <p:grpSpPr>
          <a:xfrm>
            <a:off x="7338960" y="2975040"/>
            <a:ext cx="488880" cy="420480"/>
            <a:chOff x="7338960" y="2975040"/>
            <a:chExt cx="488880" cy="420480"/>
          </a:xfrm>
        </p:grpSpPr>
        <p:pic>
          <p:nvPicPr>
            <p:cNvPr id="2132" name="Овал 58" descr=""/>
            <p:cNvPicPr/>
            <p:nvPr/>
          </p:nvPicPr>
          <p:blipFill>
            <a:blip r:embed="rId14"/>
            <a:stretch/>
          </p:blipFill>
          <p:spPr>
            <a:xfrm>
              <a:off x="7338960" y="2975040"/>
              <a:ext cx="48888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3" name=""/>
            <p:cNvSpPr/>
            <p:nvPr/>
          </p:nvSpPr>
          <p:spPr>
            <a:xfrm>
              <a:off x="7426440" y="3054240"/>
              <a:ext cx="3110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4" name="Прямоугольник 59"/>
          <p:cNvSpPr/>
          <p:nvPr/>
        </p:nvSpPr>
        <p:spPr>
          <a:xfrm>
            <a:off x="5210280" y="3449520"/>
            <a:ext cx="203832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ород Новочеркас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Овал 60"/>
          <p:cNvGrpSpPr/>
          <p:nvPr/>
        </p:nvGrpSpPr>
        <p:grpSpPr>
          <a:xfrm>
            <a:off x="7334280" y="3438360"/>
            <a:ext cx="487440" cy="420840"/>
            <a:chOff x="7334280" y="3438360"/>
            <a:chExt cx="487440" cy="420840"/>
          </a:xfrm>
        </p:grpSpPr>
        <p:pic>
          <p:nvPicPr>
            <p:cNvPr id="2136" name="Овал 60" descr=""/>
            <p:cNvPicPr/>
            <p:nvPr/>
          </p:nvPicPr>
          <p:blipFill>
            <a:blip r:embed="rId15"/>
            <a:stretch/>
          </p:blipFill>
          <p:spPr>
            <a:xfrm>
              <a:off x="7334280" y="3438360"/>
              <a:ext cx="4874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7" name=""/>
            <p:cNvSpPr/>
            <p:nvPr/>
          </p:nvSpPr>
          <p:spPr>
            <a:xfrm>
              <a:off x="7421400" y="3516480"/>
              <a:ext cx="311400" cy="26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38" name="Заголовок 3" descr=""/>
          <p:cNvPicPr/>
          <p:nvPr/>
        </p:nvPicPr>
        <p:blipFill>
          <a:blip r:embed="rId16"/>
          <a:stretch/>
        </p:blipFill>
        <p:spPr>
          <a:xfrm>
            <a:off x="1427040" y="4443480"/>
            <a:ext cx="3164040" cy="646200"/>
          </a:xfrm>
          <a:prstGeom prst="rect">
            <a:avLst/>
          </a:prstGeom>
          <a:ln w="0">
            <a:noFill/>
          </a:ln>
        </p:spPr>
      </p:pic>
      <p:sp>
        <p:nvSpPr>
          <p:cNvPr id="2139" name="Прямоугольник 104"/>
          <p:cNvSpPr/>
          <p:nvPr/>
        </p:nvSpPr>
        <p:spPr>
          <a:xfrm>
            <a:off x="1376280" y="4940280"/>
            <a:ext cx="32670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езультаты ЕГЭ аннулир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 итогам просмотра архива видеозапи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Номер слайда 3"/>
          <p:cNvSpPr/>
          <p:nvPr/>
        </p:nvSpPr>
        <p:spPr>
          <a:xfrm>
            <a:off x="8675640" y="5697360"/>
            <a:ext cx="46836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28D5-6AF7-4A9C-A02B-F898399F650A}" type="slidenum">
              <a:rPr b="0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Прямоугольник 8"/>
          <p:cNvSpPr/>
          <p:nvPr/>
        </p:nvSpPr>
        <p:spPr>
          <a:xfrm>
            <a:off x="184320" y="2202480"/>
            <a:ext cx="863568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spAutoFit/>
          </a:bodyPr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абая информационная и разъяснительная работа с обучающимися и их родителями – желают изменить перечень предметов, не знают регламента проведения экзаменов  в форме ОГЭ и ГВЭ, не знают процедуры оформления апелляц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контрольность процесса проведения экзамена в ППЭ (нарушения организаторов, 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присутствие учителей предметни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организация обучения выпускников: ознакомление с моделями экзаменов, изучение правил заполнения бланков отв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азмещение на сайтах образовательных организаций информации для участников ГИА с ссылкой  на ознакомление с методическими материалами для подготовки и проведения ОГЭ, ГВЭ по всем учебным предметам http://fipi.ru/; oge-i-gve-9/g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учение работников ППЭ, руководителей ППЭ,</a:t>
            </a:r>
            <a:r>
              <a:rPr b="1" lang="ru-RU" sz="1600" spc="-1" strike="noStrike">
                <a:solidFill>
                  <a:srgbClr val="ff5050"/>
                </a:solidFill>
                <a:latin typeface="Arial"/>
              </a:rPr>
              <a:t> председателей и членов ТЭК, ТПК, ТК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Прямоугольник 4"/>
          <p:cNvSpPr/>
          <p:nvPr/>
        </p:nvSpPr>
        <p:spPr>
          <a:xfrm>
            <a:off x="1116000" y="1385640"/>
            <a:ext cx="7839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облемы и вопросы, требующие особого внимания при организации подготовки к проведению ГИА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pic>
        <p:nvPicPr>
          <p:cNvPr id="2144" name="Picture 2" descr="http://cf.ppt-online.org/files/slide/e/egnR3fbJaZlNHrTdjwOo6IxhWYPGtz5ys8Eq19/slide-33.jpg"/>
          <p:cNvPicPr/>
          <p:nvPr/>
        </p:nvPicPr>
        <p:blipFill>
          <a:blip r:embed="rId1"/>
          <a:stretch/>
        </p:blipFill>
        <p:spPr>
          <a:xfrm>
            <a:off x="0" y="-457200"/>
            <a:ext cx="96854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Arial"/>
              </a:rPr>
              <a:t>ЕГЭ, ОГЭ -2019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5" name=""/>
          <p:cNvSpPr txBox="1"/>
          <p:nvPr/>
        </p:nvSpPr>
        <p:spPr>
          <a:xfrm>
            <a:off x="250920" y="1557360"/>
            <a:ext cx="86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Получить знания – дело долгое и трудное, а показать результаты своих достижений еще сложнее: как будет проходить ЕГЭ и ОГЭ в 2019 году и какие изменения в эти экзамены внесло Министерство образования?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452a"/>
                </a:solidFill>
                <a:latin typeface="Calibri"/>
              </a:rPr>
              <a:t>Путь к достижению своих целей нелегок, и приходится с малых лет «бороться и искать». Первые школьники, имеющие опыт прохождения сдачи ЕГЭ и ОГЭ уже окончили ВУЗы и колледжи, а что предстоит сегодняшним будущим выпускникам школ, сколько предметов надо будет сдавать в 2019 году?</a:t>
            </a:r>
            <a:endParaRPr b="0" lang="en-US" sz="28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Arial"/>
              </a:rPr>
              <a:t>Итоговое сочинение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37" name=""/>
          <p:cNvSpPr txBox="1"/>
          <p:nvPr/>
        </p:nvSpPr>
        <p:spPr>
          <a:xfrm>
            <a:off x="287280" y="1268280"/>
            <a:ext cx="8677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Итоговое сочинение по литературе – это обязательный для всех выпускников школ экзамен, который является допуском к ЕГЭ. 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Итоговое сочинение проводится в первую среду декабря, поэтому в 2018 году оно будет назначено на   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5 декабря.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a452a"/>
                </a:solidFill>
                <a:latin typeface="Calibri"/>
              </a:rPr>
              <a:t>Любой ученик, не сдавший сочинение с первой попытки, может ее повторить, но в случае повторного провала придется отложить все экзамены на следующий год.</a:t>
            </a: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Заявление на участие в ЕГЭ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4a452a"/>
                </a:solidFill>
                <a:latin typeface="Calibri"/>
              </a:rPr>
              <a:t>с указанием предметов, которые выпускник собирается сдавать, необходимо подать 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до 1 февраля 2019 г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дача заявления для участия в ГИА-9 </a:t>
            </a:r>
            <a:r>
              <a:rPr b="1" lang="ru-RU" sz="3600" spc="-1" strike="noStrike">
                <a:solidFill>
                  <a:srgbClr val="c0504d"/>
                </a:solidFill>
                <a:latin typeface="Calibri"/>
              </a:rPr>
              <a:t>до 1 марта 2019 г.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504d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Заявление</a:t>
            </a:r>
            <a:r>
              <a:rPr b="0" lang="ru-RU" sz="60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Calibri"/>
              </a:rPr>
              <a:t>Досрочный период</a:t>
            </a:r>
            <a:endParaRPr b="0" lang="en-US" sz="36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Основной период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Резервные дни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Дополнительный период (сентябрьские сроки)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008000" y="297000"/>
            <a:ext cx="79567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452a"/>
                </a:solidFill>
                <a:latin typeface="Cassandra"/>
              </a:rPr>
              <a:t>Расписание экзаменов в 9 и 11 классах</a:t>
            </a:r>
            <a:endParaRPr b="0" lang="en-US" sz="4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ssandra"/>
              </a:rPr>
              <a:t>В 11 классе два обязательных экзамена: русский язык и математика </a:t>
            </a:r>
            <a:endParaRPr b="0" lang="en-US" sz="24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3" name=""/>
          <p:cNvSpPr txBox="1"/>
          <p:nvPr/>
        </p:nvSpPr>
        <p:spPr>
          <a:xfrm>
            <a:off x="900000" y="1160640"/>
            <a:ext cx="79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Математика: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Базовый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Профильный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Два уровня одновременно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Базовый уровень необходим, чтобы получить аттестат и иметь возможность поступить в ВУЗ, где математика не является вступительным экзаменом. Оцениваться базовый уровень будет по пятибалльной системе.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452a"/>
                </a:solidFill>
                <a:latin typeface="Calibri"/>
              </a:rPr>
              <a:t>Экзамен по математике профильного уровня сдают школьники, планирующие поступление в ВУЗ, в котором математика внесена в перечень обязательных вступительных испытаний. Этот экзамен будет оцениваться по стобалльной системе. </a:t>
            </a:r>
            <a:endParaRPr b="0" lang="en-US" sz="24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Предметы по выбору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934920" y="159336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физик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биология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географ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литератур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хим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стория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ностранные языки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нформатика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обществознание.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marL="2613240" indent="-3117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pic>
        <p:nvPicPr>
          <p:cNvPr id="1946" name="Рисунок 4" descr="http://steshka.ru/wp-content/uploads/2015/05/kartinki_shkola_deti_uchitelya_7.jpg"/>
          <p:cNvPicPr/>
          <p:nvPr/>
        </p:nvPicPr>
        <p:blipFill>
          <a:blip r:embed="rId1"/>
          <a:stretch/>
        </p:blipFill>
        <p:spPr>
          <a:xfrm>
            <a:off x="0" y="1808280"/>
            <a:ext cx="3419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93672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a452a"/>
                </a:solidFill>
                <a:latin typeface="Cassandra"/>
              </a:rPr>
              <a:t>ГИА - 9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863640" y="1196640"/>
            <a:ext cx="7991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Calibri"/>
              </a:rPr>
              <a:t>Количество экзаменов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Девятиклассники должны сдать четыре экзамена: </a:t>
            </a:r>
            <a:r>
              <a:rPr b="0" lang="ru-RU" sz="3200" spc="-1" strike="noStrike" u="sng">
                <a:solidFill>
                  <a:srgbClr val="4a452a"/>
                </a:solidFill>
                <a:uFillTx/>
                <a:latin typeface="Calibri"/>
              </a:rPr>
              <a:t>два обязательных экзамена по русскому языку и математике;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4a452a"/>
                </a:solidFill>
                <a:uFillTx/>
                <a:latin typeface="Calibri"/>
              </a:rPr>
              <a:t>и два обязательных экзамена по выбору </a:t>
            </a:r>
            <a:r>
              <a:rPr b="0" lang="ru-RU" sz="3200" spc="-1" strike="noStrike">
                <a:solidFill>
                  <a:srgbClr val="4a452a"/>
                </a:solidFill>
                <a:latin typeface="Calibri"/>
              </a:rPr>
              <a:t>из числа учебных предметов: физика, химия, биология, литература, география, история, обществознание, иностранные языки, информатика и ИКТ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18-11-26T18:25:24Z</dcterms:modified>
  <cp:revision>66</cp:revision>
  <dc:subject/>
  <dc:title>Слайд 1</dc:title>
</cp:coreProperties>
</file>